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61B0-285D-46DA-87B1-0308B4A70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6D54-3819-4055-9B7B-B0760143B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F5E2-4290-45D0-BC63-C80EAC4DB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A4D0-01BA-42DA-9E3F-2EF00C1A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2A444-E50A-4FD0-8686-920884515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0AAC-8A1F-446E-AE68-9ECF04150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0B50-8CE1-4F20-9150-C8D4F8A1A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37176-E5C6-41E4-9249-611C9873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E9448-CBB7-453D-BA6F-2D340F2A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4010B-5C23-43CF-BA92-E2FD9AC88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A8405-F0EB-4423-8F7F-755F41DD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D5BC-B235-499D-B0B1-71FB9FBA9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B01A9-471C-421C-92E9-D05FC81BC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1510-48AB-4857-9C40-C10BF159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C303-BD13-486A-9D27-496129CB2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60B87-6694-4F30-AA3E-57769BAAA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3AAB-DC52-46B9-A74A-0B29071C2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74D2-5084-4F36-AEA9-F7809B5B6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C5AC-5F5A-46B9-B1E8-40D336827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ACA0-F006-4B58-BD70-2706FD910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A8E3-F20B-4531-BF30-CA45C38D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1237-EEE9-4841-B768-9E57EFF3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D788-DC7D-4224-8A2E-1DBF9DAF1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590C-9B94-46DF-B9BF-D54616BE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F312-3B85-4B9A-A0A1-9140C9632686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82452-0FA3-4BDB-A64E-2B611828453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1085760" indent="-1085760" algn="ctr">
              <a:buClr>
                <a:srgbClr val="ffffcc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Applications Software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7.00 Utilize multimedia/presentation graphics softwa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it Objectives 7.01-7.0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lan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scription of learner/audienc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ge, target group, reading level, et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will you gain attention and introduce the topic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esent objectives and standar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will you gather resources and information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-media use prepar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tent planning brainstorming and design layout brainstorming on pap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ider the necessary equipment/materials/handou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sig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eep it simp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clude words and im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ice big tit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words or phr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 sentences and no fine deta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n’t clutter the sli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eave a lot of white (blank) spa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 consistent on all your sli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 the same design templ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me font sty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2514600" cy="208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sig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ject an imag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se visuals to clarify or emphasize a poi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add variet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change focu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ganize inform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t should be easy to follow such as in an outline forma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me right to the poi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reate high contrast between the background and the tex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 color wise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slides do something (animation/transition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reat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rt your presentation program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 a New Present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y a template design that relates to the purpose of the present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2819520" cy="2541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dentify the following parts of the presentation window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itle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enu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ol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lacehold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atus bar/Application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iew buttons/tab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rawing tool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utline Page (PowerPoint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tes page (PowerPoint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nimize, Maximize/Restore, Close butt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lore the different tool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oose design layou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ext to the slid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dditional sli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ext and graphic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ransition effec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nimation to sli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eck spelling/gramm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iew slides in a slide show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reat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ve the mouse pointer over each Toolbar button to display its pop up nam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lect a slide view that displays an individual slid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 slides using relevant slide layouts provided by your softwa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ck your spelling and gramma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turn to your first slid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ange the slide view to display all the slides in miniatu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serting a graphic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eate a new slide and select a slide layout that contains a clip art placehold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sert relevant clip art or a file from a downloaded file from a disk/hard disk driv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reating a char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eate a new slide and select a slide layout that contains a chart placehold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lect the type of chart relevant to your presentation/dat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rganizational char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ine, Bar, Pie Chart/Graph, etc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ter data to create the char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erting a sound fi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und can be added in several way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continuous during the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during an object/text anim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during an object/text hyperlink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7574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erting Slide Transitions and Animation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lore the different transition effects and speed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lore the different animation effects for text and objec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a transition effect for bulleted tex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a different transition effect for objects/graphic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lore the different orders of anim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the animation of a graphic before the tex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 different sound effect to graphic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v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2427120" cy="24382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4267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ave the presenta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36576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is Multimedia/Presentation Graphics Softwar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Multimedi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combines text, graphics, animation, video, and audi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Presentation Graphics Softwar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llows the user to create documents called slides to be used in making present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t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4267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int the present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plore different printing op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id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 per page, 6 per page, et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utline view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andou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e P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876920" y="36576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ips for Delivering a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 the purpose of your present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lan your cont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 your audie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p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ve an attention-getting open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 positiv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velop a memorable clos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utline your main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lps you stay foc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ips for Delivering a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alk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on’t talk too slow or too fa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tch your audience and take your cue from th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ess professionally (proper business attir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ke eye contact, be natural and since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volve your audie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 sure to leave time at the end of your presentation to answer ques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esent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plore different slide show op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ual Slide Advanc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utomatic Slide Advanc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t up needed equipm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ways do a test ru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stribute handouts or notes pages if need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ke a deep breath and BEGIN!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ypes of Presen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fo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verhead transparenc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jection device attached to a compu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irtu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entations on the Interne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Uses of Multimedia/Presentation Graphics Softwar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ilding Desig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awing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arts/Graph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por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rochur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eting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ducational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formational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dvantages of Multimedia/Presentation Graphics Softwa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3429000" cy="241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1280" y="1828440"/>
            <a:ext cx="472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hancement of Text only messag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an help illustrate some topics better than static text or diagram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rtable and edit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tributable via the web and/or CD-RO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ains and holds atten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activity can help learning proces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tertaining as well as Education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yperlinks to other presentations, documents, and/or web sit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lid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n individual screen in a slide show; the basic unit of a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itle Slide –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enerally the first slide in a presentation; introduces the presentation to the audienc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Bulleted List Slide –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 type of slide layout that allows you to enter several levels of bulleted text; each level is formatted in a different point siz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Presentation fil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the file you save to disk that contains all the slides, speaker’s notes, handouts, that make up your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Objec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ny element that appears on a slide, such as clip art, text, drawings, charts, sounds, and video clip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lide show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 series of slides displayed in sequence; controlled manually or automaticall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ransitio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 special effect used to introduce a slide during a slide sho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Outlin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quickly to create your presentation using an outline forma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Graph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to create and insert charts into your presentatio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Draw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to create diagrams using shapes such as arcs, arrows, cubes, rectangles, stars, and triang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ultimedia effect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dds interest and keeps your audience attentive by adding effects, such as sound and video to your present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Design templat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ovides consistency in design and color throughout the entire presentation; determines the color scheme, font and font size, and layout of your present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ttribut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the properties or characteristics of an objec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Placeholder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empty objects on a new slid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udience handout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intouts of your electronic presentation that your audience can use to follow along and to take not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peaker not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notes that include the slide as well as comments or points you may want to rememb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enu bar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list each of the menus in applications and usually appears near the top of the application window under the window title ba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oolbar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ovide quick access to frequently used commands; a lot of the buttons are the same from program to program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oolbox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resembles a toolbar, but hold items such as drawing tools rather than buttons that perform command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yperlink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 link you click to display another webpage or document with in a presentation; can consist of specially formatted text, buttons, and hotspots on graphics or pictur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20:47:28Z</dcterms:created>
  <dc:creator>Beaufort County Schools</dc:creator>
  <dc:description/>
  <dc:language>en-US</dc:language>
  <cp:lastModifiedBy>WCPSS</cp:lastModifiedBy>
  <dcterms:modified xsi:type="dcterms:W3CDTF">2003-03-31T16:59:28Z</dcterms:modified>
  <cp:revision>42</cp:revision>
  <dc:subject/>
  <dc:title>Slide 1</dc:title>
</cp:coreProperties>
</file>