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865-513D-46CB-BD4F-703C5B3E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8A0-FCD1-4678-838F-495364B8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856-21E5-43DD-9207-F9424A73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098-09E7-4DBA-8E4C-455EA07D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E125-2687-450A-91F3-7921F2E1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8A76-5063-4FF3-994F-E2CEA144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8466-E390-466C-9C96-B40EC92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561-35AA-4E1F-BC5E-380585A4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5E1D-8EB6-423D-BAE8-8FACFE6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3F93-349B-492F-AEE9-739681A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CF18-F8CD-4EC3-949E-78386C3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ACC-B5F1-4795-9C5C-0872414F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D6D7-07F2-4CC5-AB7F-76A671F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0464-2261-4478-9E97-8572A35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259-6DC8-4E3E-80D8-32DECE8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7E7-3910-4F55-911E-F9E0FF8E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50F-DF5B-4D67-927B-BA988F3F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A80-3064-4822-BA5A-5A78030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D41-849F-4147-B1AB-D0F3CDF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4F6-3639-40C0-98EA-CC40970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B34-E84F-4139-BB67-9AF69BB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E8B-6DCC-487E-B259-0960594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49A-7DA3-4888-B1F9-02DA15B8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1CC-BDF7-4C9B-8E7F-B7E6924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5DD-23E5-4ED9-80C0-166257B466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E00-B060-4C8B-AD78-6266B2A2FD8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85760" indent="-1085760" algn="ctr">
              <a:buClr>
                <a:srgbClr val="ffffcc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pplications Softwar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00 Utilize multimedia/presentation graphics softw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t Objectives 7.01-7.0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on of learner/audie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ge, target group, reading level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in attention and introduce the topi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 objectives and standar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ther resources and inform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-media use prepa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ent planning brainstorming and design layout brainstorming on pap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ider the necessary equipment/materials/handou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ep it si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 words and im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ce big tit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words or phr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ntences and no fine det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clutter the sli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 a lot of white (blank) s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consistent on all your sl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the same design templ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e font sty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ject an im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 visuals to clarify or emphasize a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add varie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change foc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ganize 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should be easy to follow such as in an outline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e right to the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 high contrast between the background and the 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color wise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lides do something (animation/transi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 your presentation progra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a New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a template design that relates to the purpose of the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2819520" cy="25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dentify the following parts of the presentation window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tle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enu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cehol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tus bar/Application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buttons/tab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rawing 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line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es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ize, Maximize/Restore, Close but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tool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 design layou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to the slid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dditional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and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ransition effec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nimation to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ck spelling/gramm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slides in a slide sh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ve the mouse pointer over each Toolbar button to display its pop up nam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 slide view that displays an individual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slides using relevant slide layouts provided by your softwa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your spelling and gramma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urn to your first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nge the slide view to display all the slides in minia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serting a graph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lip 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sert relevant clip art or a file from a downloaded file from a disk/hard disk driv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ing a cha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h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ect the type of chart relevant to your presentation/dat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rganizational cha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e, Bar, Pie Chart/Graph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 data to create the char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a sound fi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 can be added in several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continuous during the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anim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hyperlin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7574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Slide Transitions and Anim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transition effects and spee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animation effects for text and obj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transition effect for bulleted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different transition effect for objects/graphic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orders of anim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the animation of a graphic before the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 different sound effect to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v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2712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ave the present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Multimedia/Presentation Graphics Softwa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Multimedi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combines text, graphics, animation, video, and audi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entation Graphics Softwa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llows the user to create documents called slides to be used in making present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t the pres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re different printing op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i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 per page, 6 per page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utline vie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ndou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e P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the purpose of your 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 your cont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your aud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p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an attention-getting ope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posi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memorable clos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tline your main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s you stay foc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talk too slow or too fa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 your audience and take your cue from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ess professionally (proper business attir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ke eye contact, be natural and sinc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 your audi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sure to leave time at the end of your presentation to answer ques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ore different slide show op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ual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 up needed equi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ways do a test ru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ribute handouts or notes pages if nee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deep breath and BEGIN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ypes of Presen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verhead transparenc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jection device attached to a compu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t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ations on the Intern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ses of Multimedia/Presentation Graphics Softwa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ing De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w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ts/Graph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och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eting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uc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 of Multimedia/Presentation Graphics Softwa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42900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1280" y="182844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hancement of Text only messa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 help illustrate some topics better than static text or diagr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rtable and edit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tributable via the web and/or CD-R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s and holds atten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activity can help learning proc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taining as well as Education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yperlinks to other presentations, documents, and/or web si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 individual screen in a slide show; the basic unit of a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itle Slide –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ally the first slide in a presentation; introduces the presentation to the audien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ulleted List Slide –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type of slide layout that allows you to enter several levels of bulleted text; each level is formatted in a different point siz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ation fil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the file you save to disk that contains all the slides, speaker’s notes, handouts, that make up your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y element that appears on a slide, such as clip art, text, drawings, charts, sounds, and video clip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 show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 series of slides displayed in sequence; controlled manually or automatical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ransi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special effect used to introduce a slide during a slide sh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Outlin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quickly to create your presentation using an outline form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ph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and insert charts into your presenta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raw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diagrams using shapes such as arcs, arrows, cubes, rectangles, stars, and triang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ultimedia effec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dds interest and keeps your audience attentive by adding effects, such as sound and video to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sign templ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s consistency in design and color throughout the entire presentation; determines the color scheme, font and font size, and layout of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ttribu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the properties or characteristics of an objec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lacehold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empty objects on a new sl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udience handou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intouts of your electronic presentation that your audience can use to follow along and to take no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peaker no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notes that include the slide as well as comments or points you may want to rememb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enu 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list each of the menus in applications and usually appears near the top of the application window under the window title b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 quick access to frequently used commands; a lot of the buttons are the same from program to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ox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resembles a toolbar, but hold items such as drawing tools rather than buttons that perform comman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yperlin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link you click to display another webpage or document with in a presentation; can consist of specially formatted text, buttons, and hotspots on graphics or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0:47:28Z</dcterms:created>
  <dc:creator>Beaufort County Schools</dc:creator>
  <dc:description/>
  <dc:language>en-US</dc:language>
  <cp:lastModifiedBy>WCPSS</cp:lastModifiedBy>
  <dcterms:modified xsi:type="dcterms:W3CDTF">2003-03-31T16:59:28Z</dcterms:modified>
  <cp:revision>42</cp:revision>
  <dc:subject/>
  <dc:title>Slide 1</dc:title>
</cp:coreProperties>
</file>