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030F-4462-4AB1-9987-50EC20055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06A8-C276-4C2F-B99F-9A2997728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83AD-90D1-4C34-964E-127A2ED4D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4508-5985-4C3C-BB01-CA45813F6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8C4F3-533D-4F56-A911-D7EDBB83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40619-8B77-46A9-8BA9-2F5D2089C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A3C7-A1F9-4642-848E-D97D0D783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799C4-72B4-4AF2-A2DF-A54428AB1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BAD0E-DF38-458D-8F0D-3E12C0D8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14219-FE81-4877-AD34-F51D34DB3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147ED-CF2D-454C-BB0E-C17D6F64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C65-FE36-472F-8540-EDA14A77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16778-B596-406C-AC2E-A9E871DB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9FDA-D933-4DC9-A2E8-669C16BD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1A484-4F5B-4FAB-BEE0-53A63793C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177E-78B6-4292-88D6-6C7996376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B6A02-CA0D-43AF-818B-8CCB9264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42F8-7BD2-4895-B8E6-A2555E3E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B487-7BEE-4BD4-9341-B68F867C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D576-BE44-4A94-9E89-505C0EAEE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EE4-8C04-439A-B0AF-84916F4D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1C14-CDF8-4ACC-848D-1A999DE1B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354-E4A1-4C7F-8D81-B9873490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262-A957-4551-8548-A3AFD8D9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A9FFD-F5CB-4C74-991F-B434F1EBD30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C61B-30C2-4B9D-B84C-EECF254E26E1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7467480" cy="129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.  Computer Basics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41911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Objecti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1-1.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200400"/>
            <a:ext cx="61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00 Examine the role of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entral Processing Unit (CP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the microprocessor, the brains of the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used on a tiny silicon ch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contains millions of switches and pathways that help your computer make important decis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PU knows which switches to turn on and which to turn off  because it receives its instructions from computer programs (software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PU has two primary section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ithmetic/logic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rol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rithmetic/logic unit (AL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performs arithmetic computations and logical operations; by combining these two operations the ALU can execute complex tas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ithmetic operations include addition, subtractions, multiplication, and divis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al operations involve comparis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trol Uni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is the “boss” and coordinates all of the CPU’s activitie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programming instructions, it controls the flow of information through the processor by controlling what happens inside the processo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 communicate with the computer through programming languag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BOL, C++, or VisualBasic.net, HTML, Java Script for examp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emor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found on the motherboard; short term and long ter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andom Access Memory (RA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short term; where data, information, and program instructions are stored temporarily on a RAM chip or a set of RAM chi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n the computer is turned off or if there is loss of power, what ever is stored in RAM disappear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know as the main memory and is considered volat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omputer can read from and write to RA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-Only Memory (RO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long term; where the specific instructions that are needed for the computer to operate are stor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is nonvolatile and your computer can only read from a ROM chip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instructions remain on the chip regardless if the power is turned on or of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common is the BIOS ROM; where the computer uses instructions contained on this chip to boot or start the system when you turn on your comput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1028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sic Controll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on the motherboard, a device that controls the transfer of data from the computer to a peripheral device and vice ver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 keyboards, mouse, monitors, and prin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 stored on one single ch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al and Parallel Por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connect our peripheral devices to the computer; usually one serial and one parallel port on  a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ial devices transmit data one bit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m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llel devices transfer several bits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rinter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rial Bus (USB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 new standard that supports data transfer rates of up to 12 million bits per seco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ngle USB port can be used to connect up to 127 peripheral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ed to replace serial and parallel ports in the near fu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pansion Slo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n opening on the motherboard where a circuit board or expansion board can be inser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Additional Memory, video cards, modem cards, and sound car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9920" y="5029200"/>
            <a:ext cx="2628720" cy="1614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A Computer Process Data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C system c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 metal and plastic case that houses the main system components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 to all of this is the motherboard or system board that mounts into the ca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therboar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a circuit board (a thin plate or board that contains electronic components) that contains many integral compon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828800" cy="14126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SCII (American Standard Code for Information Interchange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the most popular and widely used standardized cod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eight bits or combinations of ones and zeros represent a charac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-Megabyte or roughly 1 m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B-Gigabyte or roughly one b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put, Output, &amp; 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put dev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hardware that allows you to communicate with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put de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ardware that allows your computer to communicate with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orage dev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llows you to store or retrieve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In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use/Track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y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ght 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ing 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 scr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code rea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s Tab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Came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5257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Out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ni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creen that display information such as text, numbers, and pic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n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s you information from the computer in printed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peak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 you to hear voice, music, and other sounds from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dem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s you to use your computer to communicate with other compu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943600" y="525780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52704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e Types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t Matri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s a printed image in a pattern (matrix) of tiny ink do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expensive and not as clea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kjet Pr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quality of printed docu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hine uses an ink cartridge and a printing element to print a finer image on the pap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quality of printed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er beam and an ink toner cartridge are used to produce the im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48972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A Comput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lectronic device that receives data, processes data, stores data, and produces a result (output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electronic circuits, which can be on or off (open or closed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97520" indent="-19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two states of the circuit are represented by two digits, 0 and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the bina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ing bits (0 and 1), you can represent any character or numb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netic storage devices use oxide-coated plastic storage media called myl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disk rotates in the computer, an electromagnetic read/write head stores or retrieves data in circles called tr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cks are numbered from the outside to the inside and as data is stored on the disk it is stored on one of these numbered trac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track is labeled and the location is stored in a log on the disk known as a file allocation table (FA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 Disk Driv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store data inside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platter that holds a large amount of information in a form the computer can underst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ing data is fa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ount of data that can be stored is much more than what can be stored on a floppy dis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Hard drive is measured in megabytes or gigaby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oppy Dis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lat circles of iron oxide-coated plastic enclosed in a hard plastic c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are 3 ½ inches and have a capacity to hold 1.44 MB or more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Zip Dis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capable of storing tremendous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hey are only the size of a 3 inch disk but can hold as much as 1 gigabyte of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5319720"/>
            <a:ext cx="1538280" cy="15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7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Tape Drives:  used for making backup copies of large volumes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s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used to replace data that may have been lost on the hard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similar to audio tap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s more than Flop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cal discs:  use laser technology to read and write data on silver plat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D-ROM (Compact Disk Read-Only Memory) can store up to 800MB of information/dat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only read data from a 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store data on a CD only if you have a CD Burner and writable CDs (CD-R or recordable CD-RO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VD (Digital Versatile Disk) is the size of a regular CD and can be played in a regular CD or in a DVD movie play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roup of programs that coordinate and control the resources and operations of a computer syst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all components of the computer system to communica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perating System (OS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 an interface between the user or application program and the computer hardw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 95/98/2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 System 6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tility program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lp you perform housekeeping chores; complete specialized tasks related to managing the computer’s resources, file management, and so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UI (graphical user interfac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graphical symbol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(icons) represent files, disk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s, and other obj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s that work with the OS software to help you use your computer to do specific types of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ics and Multi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Re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tainment and Lei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d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ines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773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ord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that allows you to create, edit, and print text doc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ort, flyer, mem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ed Rows and Lettered Colum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section of them =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de book, financial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0" y="1295280"/>
            <a:ext cx="3849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s you set up an electronic fil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 text and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, search, and printer info in different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 book, Card Cata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4897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with your modems or network hardware and allows your computer to communicate with other compu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 computer files and em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aphics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pictures or images to help communicate mess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56076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bines text, graphics, animation, video, and au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p 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graphical images to be added to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sktop Publis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s both pictures and words to give you the ability to create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letters and broch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&amp; Re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on many top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c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AR, Encyclopedia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95680" y="121932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tainment &amp; Lei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mes and sim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s you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several software applications into one prog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us SmartSu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Using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-free calc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ency and repet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313000" cy="2361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omputer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food and drinks away from the computer and keybo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surge protec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magnets A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lock vents on the CP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bright sunn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move the computer while it is in u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exit programs prope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15000" y="4876920"/>
            <a:ext cx="1981080" cy="1690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Diskette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remove from drives while drive in running or light is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ntact with magnets and electromagnetic fiel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disk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protective metal slider in pl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1819440" cy="1827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D ROM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CD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touching the back side of the CD; to avoid scratch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rt into CD ROM Drive properly; label facing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write on CD’s with a CD Marking Pen on a label or the correct side of the C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67080" y="4648320"/>
            <a:ext cx="2514600" cy="1896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are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ld, hot, an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correct ink or toner replace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have the proper printer cable connected to your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ver pull paper out of a printer in mo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turn off the printer while prin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the instruction manual before operating a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proper type of paper in your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to Maintain your Computer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a notebook of information on your syste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ial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ndor support telephone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I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 and vendor for each equipment and software purchas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ouble l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review disk directories and delete unneeded fi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sure all plug-ins are secure at all tim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rn off the power and disconnect the equipment form the power source before you open the inside of you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surrounding area dirt and dust fre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 up files and data regular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defragment your hard di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your system from computer vir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rn to use system diagnostic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ience of designing equipment for a comfortable and safe working environ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er Computer Ergonom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 up straight and lean forward slightly from the wai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eet flat on the flo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body should be about a hand’s length from the front of the keyboard and centered with the keybo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ingers on the home row keys and curv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wrists up, not touching the keyboard o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cus your eyes on the book, copy or scree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all materials you will type on the right side of the computer and supplies on the left si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any items you are not using off you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ccasionally rest your eyes and take short brea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oid lights that cause glare on the monit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the tangible, physical equipment that can be seen and touched such 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C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board and Mo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ak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the intangible set of instructions that tells the computer what to do; know as programs or software progra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types:  application and system software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at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information entered into the computer to be processed, which consists of the follow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xt, numbers, sounds, and im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eo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 users of the computers who enter the data and use the outpu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per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most power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do things like predict hurricanes and navigate satell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frames and minicomput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used by business and government to process large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comput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maller and less powerful than the other types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38680" y="4952880"/>
            <a:ext cx="2514600" cy="1544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l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ktop compu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esigned to be used on a deskt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ebook/Tablet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signed to be used on a desktop but still small enough to be por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ptop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igned to be small enough and light enough to be used on your la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95680" y="46483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ditional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DAs (Personal Digital Assistant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 handheld device that is often used in conjunction with a desktop or other P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have a special keyboard, some u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en or stylus for enter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Data can be transferred to a desktop or laptop comp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eb TV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s easy access to the Internet without having to have a traditional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you to connect to the Internet and usually includes a keyboard or other device for entering and selecting da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600200" cy="1434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chnology that enables computers to commun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ransmission of text, numeric, voice or video data from one machine to an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ular 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, electronic messages (e-mail), faxes, and electronic or online ban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compon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end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that is send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ceiv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receiv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media that carries or transports the message. (telephone wire, coaxial cable, microwave signal, or fiber opti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otoc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rules that govern the orderly transfer of the data s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computers are connected to other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can share information and sometimes hardware (prin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ocal Area Networks (L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computers connected together in a relatively close location such as in the same building or depart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and software for these computers are stored on a central computer called the file serv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ide Area Networks (W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when local area networks are expanded to include several local area networks within a city, state, region, territory, country, continent, or the wor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1905120" cy="163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2:40:57Z</dcterms:created>
  <dc:creator>Kristy Christenberry</dc:creator>
  <dc:description/>
  <dc:language>en-US</dc:language>
  <cp:lastModifiedBy>WCPSS</cp:lastModifiedBy>
  <dcterms:modified xsi:type="dcterms:W3CDTF">2003-03-26T14:33:30Z</dcterms:modified>
  <cp:revision>89</cp:revision>
  <dc:subject/>
  <dc:title>Unit I: Computer Basics</dc:title>
</cp:coreProperties>
</file>