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8.gif" ContentType="image/gif"/>
  <Override PartName="/ppt/media/image18.jpeg" ContentType="image/jpeg"/>
  <Override PartName="/ppt/media/image19.wmf" ContentType="image/x-wmf"/>
  <Override PartName="/ppt/media/image21.wmf" ContentType="image/x-wmf"/>
  <Override PartName="/ppt/media/image12.wmf" ContentType="image/x-wmf"/>
  <Override PartName="/ppt/media/image20.wmf" ContentType="image/x-wmf"/>
  <Override PartName="/ppt/media/image17.jpeg" ContentType="image/jpeg"/>
  <Override PartName="/ppt/media/image16.jpeg" ContentType="image/jpeg"/>
  <Override PartName="/ppt/media/image15.jpeg" ContentType="image/jpeg"/>
  <Override PartName="/ppt/media/image1.wmf" ContentType="image/x-wmf"/>
  <Override PartName="/ppt/media/image5.gif" ContentType="image/gif"/>
  <Override PartName="/ppt/media/image14.jpeg" ContentType="image/jpeg"/>
  <Override PartName="/ppt/media/image11.jpeg" ContentType="image/jpeg"/>
  <Override PartName="/ppt/media/image9.jpeg" ContentType="image/jpeg"/>
  <Override PartName="/ppt/media/image2.wmf" ContentType="image/x-wmf"/>
  <Override PartName="/ppt/media/image3.jpeg" ContentType="image/jpeg"/>
  <Override PartName="/ppt/media/image4.wmf" ContentType="image/x-wmf"/>
  <Override PartName="/ppt/media/image6.jpeg" ContentType="image/jpeg"/>
  <Override PartName="/ppt/media/image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F2FA-1C1D-4484-9F58-F323993A2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8F65-78DC-4F64-B8D5-C4621DF54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5BE-C5A0-4984-B560-7193AE70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63FF-3CD9-4A22-BB52-0FCEACDD5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A662-1B28-42DE-AD31-40641EAA8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7DFBB-EF29-426C-AFDC-14084B681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4A3B5-2396-41F6-90E3-959783B5D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1F4C1-9A9C-478F-A32C-CE12BE740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DDE41-B80A-491B-B830-A740526E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5E82-2C0F-4D9F-A448-F173A40C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E54D-A65D-4B22-A474-3DE4451C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EB68-4029-4D0A-A768-F20F61DF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172D-6917-4895-95E6-B1019B14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575E3-3857-452A-B16A-056BF5FE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00975-38DF-4237-9A1A-CC3094F83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D8438-A693-4EBE-AED8-5EC3D8098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19460-B693-49FA-9A88-6FE7C5BFB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27C7-BA87-4BA4-86FA-D77976CE0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BFD3-4952-42D7-BFAA-D9A7C3A8A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20AC-638F-4DAC-8F91-FCD737F4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91CFE-A3CC-4204-9AC3-E80BE8BB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817E-B851-430D-8AFB-C1420EC5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1A41-AB8B-4F3E-8C61-C5078DEC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A006-B48D-426F-89BA-FD4C57501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8DB4-F6A8-4348-9D60-DA4661A3D1D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03D4E-574F-4AD2-8CAA-A4ABEE81F91A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1828800"/>
            <a:ext cx="7467480" cy="1295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5400" spc="-1" strike="noStrike">
                <a:solidFill>
                  <a:srgbClr val="ff0000"/>
                </a:solidFill>
                <a:latin typeface="Comic Sans MS"/>
              </a:rPr>
              <a:t>A.  Computer Basics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380880" y="4191120"/>
            <a:ext cx="83822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it Objectiv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01-1.0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676520" y="3200400"/>
            <a:ext cx="6129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.00 Examine the role of hardware and softwa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entral Processing Unit (CPU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the microprocessor, the brains of the comput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oused on a tiny silicon chip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ip contains millions of switches and pathways that help your computer make important decisio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PU knows which switches to turn on and which to turn off  because it receives its instructions from computer programs (software)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PU has two primary sections: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rithmetic/logic uni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ontrol unit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Arithmetic/logic unit (ALU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performs arithmetic computations and logical operations; by combining these two operations the ALU can execute complex task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rithmetic operations include addition, subtractions, multiplication, and division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gical operations involve comparison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ontrol Unit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is the “boss” and coordinates all of the CPU’s activities.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s programming instructions, it controls the flow of information through the processor by controlling what happens inside the processo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e communicate with the computer through programming languages.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COBOL, C++, or VisualBasic.net, HTML, Java Script for exampl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Memory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found on the motherboard; short term and long term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andom Access Memory (RAM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memory on the motherboard that is short term; where data, information, and program instructions are stored temporarily on a RAM chip or a set of RAM chip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hen the computer is turned off or if there is loss of power, what ever is stored in RAM disappears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memory know as the main memory and is considered volatil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computer can read from and write to RAM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646200" indent="-2484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ad-Only Memory (ROM)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memory on the motherboard that is long term; where the specific instructions that are needed for the computer to operate are store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s memory is nonvolatile and your computer can only read from a ROM chip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 instructions remain on the chip regardless if the power is turned on or off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-19872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st common is the BIOS ROM; where the computer uses instructions contained on this chip to boot or start the system when you turn on your compute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943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7010280" y="548640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18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asic Controll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on the motherboard, a device that controls the transfer of data from the computer to a peripheral device and vice versa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s:  keyboards, mouse, monitors, and print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enerally stored on one single chi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erial and Parallel Port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used to connect our peripheral devices to the computer; usually one serial and one parallel port on  a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rial devices transmit data one bit at a tim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modem may be connected to this por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arallel devices transfer several bits at a tim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68160" indent="-22392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 printer may be connected to this por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199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Universal Serial Bus (USB)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 new standard that supports data transfer rates of up to 12 million bits per seco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single USB port can be used to connect up to 127 peripheral devi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pected to replace serial and parallel ports in the near futu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Expansion Slot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n opening on the motherboard where a circuit board or expansion board can be insert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s:  Additional Memory, video cards, modem cards, and sound car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6019920" y="5029200"/>
            <a:ext cx="2628720" cy="16146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Does A Computer Process Data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C system ca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– the metal and plastic case that houses the main system components of the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entral to all of this is the motherboard or system board that mounts into the cas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otherboard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s a circuit board (a thin plate or board that contains electronic components) that contains many integral componen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781680" y="5105520"/>
            <a:ext cx="1828800" cy="14126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2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61760" y="22860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ASCII (American Standard Code for Information Interchange)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the most popular and widely used standardized coding syste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Byt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eight bits or combinations of ones and zeros represent a charac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B-Megabyte or roughly 1 million b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B-Gigabyte or roughly one billion by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put, Output, &amp; Storage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Input devic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hardware that allows you to communicate with your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put devic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hardware that allows your computer to communicate with the us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torage devic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allows you to store or retrieve inform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er Input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yboar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ouse/Track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Joysti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Light p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ointing Stic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uchp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uch scre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ar code read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icrophon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phics Table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gital Camera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133720" y="48006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648320" y="525780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629400" y="4952880"/>
            <a:ext cx="1676520" cy="16765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8" dur="2000" fill="hold"/>
                                        <p:tgtEl>
                                          <p:spTgt spid="1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9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6870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er Output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9072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ni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screen that display information such as text, numbers, and picture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oftcop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77560" indent="-2775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rin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gives you information from the computer in printed for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01560" indent="-2314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ardcop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0060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peak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llow you to hear voice, music, and other sounds from your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odem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allows you to use your computer to communicate with other comput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5943600" y="5257800"/>
            <a:ext cx="1447920" cy="13366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52704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ree Types of Prin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ot Matri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ives a printed image in a pattern (matrix) of tiny ink dot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ess expensive and not as clear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nkjet Prin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etter quality of printed documen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chine uses an ink cartridge and a printing element to print a finer image on the paper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08360" y="18288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as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est quality of printed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aser beam and an ink toner cartridge are used to produce the imag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re expens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ic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629400" y="4876920"/>
            <a:ext cx="1676520" cy="16761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2286000" y="5334120"/>
            <a:ext cx="1295280" cy="12952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648972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What Is A Computer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electronic device that receives data, processes data, stores data, and produces a result (output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29680" indent="-2296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collection of electronic circuits, which can be on or off (open or closed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497520" indent="-19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se two states of the circuit are represented by two digits, 0 and 1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765720" indent="-15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alled the binary syste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765720" indent="-153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bining bits (0 and 1), you can represent any character or numb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orage Devi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gnetic storage devices use oxide-coated plastic storage media called myl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s the disk rotates in the computer, an electromagnetic read/write head stores or retrieves data in circles called track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racks are numbered from the outside to the inside and as data is stored on the disk it is stored on one of these numbered trac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ach track is labeled and the location is stored in a log on the disk known as a file allocation table (FAT)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Storage Devi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Hard Disk Drive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used to store data inside of the compute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netic platter that holds a large amount of information in a form the computer can understan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ccessing data is fas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mount of data that can be stored is much more than what can be stored on a floppy disk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ze of Hard drive is measured in megabytes or gigabyt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4572000" y="5029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Storage Devi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Floppy Disk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flat circles of iron oxide-coated plastic enclosed in a hard plastic ca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are 3 ½ inches and have a capacity to hold 1.44 MB or more of da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Zip Disk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capable of storing tremendous amounts of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- They are only the size of a 3 inch disk but can hold as much as 1 gigabyte of dat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019920" y="5319720"/>
            <a:ext cx="1538280" cy="15382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68706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ypes of Storage Device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735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gnetic Tape Drives:  used for making backup copies of large volumes of data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y slow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 be used to replace data that may have been lost on the hard dr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ook similar to audio tap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olds more than Flopp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571640" y="1447920"/>
            <a:ext cx="3809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ptical discs:  use laser technology to read and write data on silver platt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D-ROM (Compact Disk Read-Only Memory) can store up to 800MB of information/data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 can only read data from a CD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 can store data on a CD only if you have a CD Burner and writable CDs (CD-R or recordable CD-ROM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VD (Digital Versatile Disk) is the size of a regular CD and can be played in a regular CD or in a DVD movie play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s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120" y="9144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 group of programs that coordinate and control the resources and operations of a computer syste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ables all components of the computer system to communicate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perating System (OS)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provide an interface between the user or application program and the computer hardwar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n 95/98/2000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c System 6/7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Utility program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help you perform housekeeping chores; complete specialized tasks related to managing the computer’s resources, file management, and so 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UI (graphical user interface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graphical symbol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(icons) represent files, disks,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grams, and other objec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419720" y="3124080"/>
            <a:ext cx="828720" cy="82872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ograms that work with the OS software to help you use your computer to do specific types of wor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tegori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phics and Multimedia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ducation and Refere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ertainment and Leisu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grated Progr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2860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siness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371600"/>
            <a:ext cx="3773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ord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gram that allows you to create, edit, and print text document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port, flyer, mem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Spreadsh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umbered Rows and Lettered Colum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ersection of them = cel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ade book, financial info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0" y="1295280"/>
            <a:ext cx="38498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ataba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ets you set up an electronic filing syste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ter text and numb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, search, and printer info in different way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ddress book, Card Catalo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447560" y="151920"/>
            <a:ext cx="6489720" cy="9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ommunic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rks with your modems or network hardware and allows your computer to communicate with other computer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xchange computer files and emai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Graphics Softw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s pictures or images to help communicate message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560760" cy="33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Multimedia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mbines text, graphics, animation, video, and audio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Clip ar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graphical images to be added to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esktop Publish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uses both pictures and words to give you the ability to create docum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Newsletters and brochur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ducation &amp; Refere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ailable on many topic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l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si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Quick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08440" indent="-22140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xamples: AR, Encyclopedia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495680" y="121932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tertainment &amp; Leis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u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ames and simul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ests your skil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activ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6870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400" y="13716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mbine several software applications into one progra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ork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readshe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24280" y="1371600"/>
            <a:ext cx="3773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S Work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S OFFI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tus SmartSui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334120" y="37339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Benefits of Using Comput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3152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rror-free calcula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onsistency and repeti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791320" y="3962520"/>
            <a:ext cx="2313000" cy="23619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Computer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food and drinks away from the computer and keyboar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dusty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 surge protecto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magnets Awa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block vents on the CPU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bright sunny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move the computer while it is in u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exit programs properl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 virus check program on a regular bas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715000" y="4876920"/>
            <a:ext cx="1981080" cy="16905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Diskette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remove from drives while drive in running or light is 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contact with magnets and electromagnetic field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disks stored in a clean, cool and dry place with a protective cov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protective metal slider in plac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 a virus check program on a regular basi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hot and cold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a back-up copy of your programs and fi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095880" y="4876920"/>
            <a:ext cx="1819440" cy="182700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CD ROM C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Keep CDs stored in a clean, cool and dry place with a protective cov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touching the back side of the CD; to avoid scratch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hot and cold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ke a back-up copy of your programs and file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sert into CD ROM Drive properly; label facing u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nly write on CD’s with a CD Marking Pen on a label or the correct side of the C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4267080" y="4648320"/>
            <a:ext cx="2514600" cy="18968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040" y="22860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 Care of Prin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void cold, hot, and dusty loca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use the correct ink or toner replace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have the proper printer cable connected to your compu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ver pull paper out of a printer in motio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o not turn off the printer while printing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ad the instruction manual before operating a prin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ways use the proper type of paper in your prin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4648320" y="44197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6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1760" y="6094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How to Maintain your Computer System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rt a notebook of information on your system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rial numb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endor support telephone numbe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User ID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e and vendor for each equipment and software purchase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rouble lo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iodically review disk directories and delete unneeded fil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ke sure all plug-ins are secure at all time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urn off the power and disconnect the equipment form the power source before you open the inside of you comput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surrounding area dirt and dust fre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ack up files and data regularly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eriodically defragment your hard dis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rotect your system from computer virus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arn to use system diagnostic pro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6870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rgonomic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science of designing equipment for a comfortable and safe working environmen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per Computer Ergonomic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t up straight and lean forward slightly from the wais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your feet flat on the floo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Your body should be about a hand’s length from the front of the keyboard and centered with the keyboar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your fingers on the home row keys and curved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your wrists up, not touching the keyboard or des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cus your eyes on the book, copy or screen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lace all materials you will type on the right side of the computer and supplies on the left sid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ep any items you are not using off your desk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ccasionally rest your eyes and take short breaks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void lights that cause glare on the monito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6858000" y="4724280"/>
            <a:ext cx="1795320" cy="183384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A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uter System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Hardwa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the tangible, physical equipment that can be seen and touched such a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uter Ca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onito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Keyboard and Mous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k Driv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ak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2428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Softwa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 the intangible set of instructions that tells the computer what to do; know as programs or software program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wo types:  application and system software pro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Data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information entered into the computer to be processed, which consists of the following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ext, numbers, sounds, and image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People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the users of the computers who enter the data and use the outpu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es of Compu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Supercompu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most powerfu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d to do things like predict hurricanes and navigate satelli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Mainframes and minicomputer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 used by business and government to process large amounts of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Personal computer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smaller and less powerful than the other types of comput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638680" y="4952880"/>
            <a:ext cx="2514600" cy="15447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176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sonal Compu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esktop comput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: designed to be used on a deskto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Notebook/Tablet compu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designed to be used on a desktop but still small enough to be porta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Laptop computer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esigned to be small enough and light enough to be used on your lap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495680" y="4648320"/>
            <a:ext cx="2971800" cy="198108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36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dditional Typ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Computer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PDAs (Personal Digital Assistant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 a handheld device that is often used in conjunction with a desktop or other PC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y have a special keyboard, some use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pen or stylus for entering data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  Data can be transferred to a desktop or laptop comput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Web TV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provides easy access to the Internet without having to have a traditional computer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ables you to connect to the Internet and usually includes a keyboard or other device for entering and selecting dat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10280" y="2743200"/>
            <a:ext cx="1600200" cy="14349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Commun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technology that enables computers to communicat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 transmission of text, numeric, voice or video data from one machine to another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pular example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net, electronic messages (e-mail), faxes, and electronic or online bankin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 components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Send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computer that is sending the messa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Receiver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computer receiving the messag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hanne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media that carries or transports the message. (telephone wire, coaxial cable, microwave signal, or fiber optic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Protocol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:  the rules that govern the orderly transfer of the data sent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advTm="6000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80520"/>
            <a:ext cx="687096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Commun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when computers are connected to other comp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hey can share information and sometimes hardware (printers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Local Area Networks (LAN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computers connected together in a relatively close location such as in the same building or department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e data and software for these computers are stored on a central computer called the file server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omic Sans MS"/>
              </a:rPr>
              <a:t>Wide Area Networks (WAN)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when local area networks are expanded to include several local area networks within a city, state, region, territory, country, continent, or the world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4952880" y="4800600"/>
            <a:ext cx="1905120" cy="1638360"/>
          </a:xfrm>
          <a:prstGeom prst="rect">
            <a:avLst/>
          </a:prstGeom>
          <a:ln w="0">
            <a:noFill/>
          </a:ln>
        </p:spPr>
      </p:pic>
    </p:spTree>
  </p:cSld>
  <p:transition advTm="6000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4T12:40:57Z</dcterms:created>
  <dc:creator>Kristy Christenberry</dc:creator>
  <dc:description/>
  <dc:language>en-US</dc:language>
  <cp:lastModifiedBy>WCPSS</cp:lastModifiedBy>
  <dcterms:modified xsi:type="dcterms:W3CDTF">2003-03-26T14:33:30Z</dcterms:modified>
  <cp:revision>89</cp:revision>
  <dc:subject/>
  <dc:title>Unit I: Computer Basics</dc:title>
</cp:coreProperties>
</file>