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8.gif" ContentType="image/gif"/>
  <Override PartName="/ppt/media/image18.jpeg" ContentType="image/jpeg"/>
  <Override PartName="/ppt/media/image19.wmf" ContentType="image/x-wmf"/>
  <Override PartName="/ppt/media/image21.wmf" ContentType="image/x-wmf"/>
  <Override PartName="/ppt/media/image12.wmf" ContentType="image/x-wmf"/>
  <Override PartName="/ppt/media/image20.wmf" ContentType="image/x-wmf"/>
  <Override PartName="/ppt/media/image17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5.gif" ContentType="image/gif"/>
  <Override PartName="/ppt/media/image14.jpeg" ContentType="image/jpeg"/>
  <Override PartName="/ppt/media/image11.jpeg" ContentType="image/jpeg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6284-BEF7-4D7A-A82D-9FB4AE46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BFC9-DD9F-4009-B29F-7E22EA97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1B9-E4C1-43E9-82ED-F2B76D2A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6879-F226-4EBB-A3C1-E1BE0D1E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F78C-DA15-4103-949C-A9A12270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7EBD-B63D-4C38-8E4D-6F3B73EA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51D5-4494-485F-9C26-3872DEE3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0B9D-F171-4C2B-BE09-46316EFA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E69A-D84E-43A3-8B32-96C3CD0B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B75D-C803-453B-8161-A3F07040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31F3-5688-4FEC-8E0F-30630B26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2CA-7DF1-42A1-A645-EED20129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8889-EBC3-41A9-B555-33E1CB78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6541-7060-4EAA-8605-C37D81B6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A6DF-6663-471D-A603-F4F1E2AB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ABD2-9943-4BC7-AD72-742670DC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C52E-4787-4622-B6D0-90001AC2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0D5-5744-4FE6-97F4-172E5662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B2F5-D1D8-4CA9-AB8A-6099E0DC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6EFA-2F43-40C9-9F6B-F10B5961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ECC-0E24-46BF-83D3-04756C0C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ABA-E8D5-4D25-9A1A-09184261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1043-3E58-4C16-945D-169750C8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6097-1746-47EF-92C0-D1D6CA5E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3C3C-E207-49A5-A049-B48CCD2B913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121F-F3CB-4B4B-9E6F-41D5986AAD2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1828800"/>
            <a:ext cx="7467480" cy="1295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A.  Computer Basics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80880" y="4191120"/>
            <a:ext cx="8382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Objectiv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1-1.0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3200400"/>
            <a:ext cx="612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.00 Examine the role of hardware and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entral Processing Unit (CPU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the microprocessor, the brains of the comput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used on a tiny silicon chi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ip contains millions of switches and pathways that help your computer make important decisio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PU knows which switches to turn on and which to turn off  because it receives its instructions from computer programs (software)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PU has two primary sections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ithmetic/logic uni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trol uni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rithmetic/logic unit (ALU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performs arithmetic computations and logical operations; by combining these two operations the ALU can execute complex task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rithmetic operations include addition, subtractions, multiplication, and divisi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gical operations involve compariso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ontrol Uni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is the “boss” and coordinates all of the CPU’s activitie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s programming instructions, it controls the flow of information through the processor by controlling what happens inside the processo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e communicate with the computer through programming language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BOL, C++, or VisualBasic.net, HTML, Java Script for examp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Memory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found on the motherboard; short term and long ter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andom Access Memory (RAM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memory on the motherboard that is short term; where data, information, and program instructions are stored temporarily on a RAM chip or a set of RAM chip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en the computer is turned off or if there is loss of power, what ever is stored in RAM disappear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memory know as the main memory and is considered volatil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computer can read from and write to RA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-Only Memory (ROM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memory on the motherboard that is long term; where the specific instructions that are needed for the computer to operate are store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memory is nonvolatile and your computer can only read from a ROM chip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instructions remain on the chip regardless if the power is turned on or off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common is the BIOS ROM; where the computer uses instructions contained on this chip to boot or start the system when you turn on your compute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01028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asic Controll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on the motherboard, a device that controls the transfer of data from the computer to a peripheral device and vice vers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s:  keyboards, mouse, monitors, and print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lly stored on one single chi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rial and Parallel Port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used to connect our peripheral devices to the computer; usually one serial and one parallel port on  a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ial devices transmit data one bit at a tim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modem may be connected to this por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llel devices transfer several bits at a tim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printer may be connected to this por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versal Serial Bus (USB)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 new standard that supports data transfer rates of up to 12 million bits per seco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ingle USB port can be used to connect up to 127 peripheral de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cted to replace serial and parallel ports in the near fu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xpansion Slot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n opening on the motherboard where a circuit board or expansion board can be insert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  Additional Memory, video cards, modem cards, and sound car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19920" y="5029200"/>
            <a:ext cx="2628720" cy="16146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Does A Computer Process Data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C system c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the metal and plastic case that houses the main system components of the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ntral to all of this is the motherboard or system board that mounts into the ca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otherboar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s a circuit board (a thin plate or board that contains electronic components) that contains many integral compon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781680" y="5105520"/>
            <a:ext cx="1828800" cy="14126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SCII (American Standard Code for Information Interchange)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the most popular and widely used standardized coding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y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eight bits or combinations of ones and zeros represent a charac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B-Megabyte or roughly 1 million b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B-Gigabyte or roughly one billion b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put, Output, &amp; Storage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nput devi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hardware that allows you to communicate with your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put devic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hardware that allows your computer to communicate with the us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orage devi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allows you to store or retrieve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er Input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bo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use/Track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ysti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ght p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ing Sti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uchp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uch scr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r code rea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croph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ics Tabl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gital Camer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13372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48320" y="5257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629400" y="4952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870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er Output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ni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screen that display information such as text, numbers, and pictur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ftcop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rin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s you information from the computer in printed for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cop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0060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peak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llow you to hear voice, music, and other sounds from your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dem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llows you to use your computer to communicate with other comput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943600" y="5257800"/>
            <a:ext cx="1447920" cy="13366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52704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ree Types of Prin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t Matri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s a printed image in a pattern (matrix) of tiny ink do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ss expensive and not as clea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kjet Pri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ter quality of printed docu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chine uses an ink cartridge and a printing element to print a finer image on the pape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st quality of printed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ser beam and an ink toner cartridge are used to produce the imag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 expens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i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629400" y="48769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286000" y="53341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48972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Is A Computer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lectronic device that receives data, processes data, stores data, and produces a result (output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electronic circuits, which can be on or off (open or closed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97520" indent="-19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two states of the circuit are represented by two digits, 0 and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765720" indent="-15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ed the bina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65720" indent="-15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bining bits (0 and 1), you can represent any character or numb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orage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gnetic storage devices use oxide-coated plastic storage media called myl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the disk rotates in the computer, an electromagnetic read/write head stores or retrieves data in circles called track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cks are numbered from the outside to the inside and as data is stored on the disk it is stored on one of these numbered trac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track is labeled and the location is stored in a log on the disk known as a file allocation table (FAT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Storage Devi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ard Disk Driv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used to store data inside of the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netic platter that holds a large amount of information in a form the computer can understan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ssing data is fa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mount of data that can be stored is much more than what can be stored on a floppy dis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ze of Hard drive is measured in megabytes or gigabyt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0" y="5029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Storage Devi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loppy Disk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flat circles of iron oxide-coated plastic enclosed in a hard plastic c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are 3 ½ inches and have a capacity to hold 1.44 MB or more of da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Zip Dis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capable of storing tremendous amounts of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They are only the size of a 3 inch disk but can hold as much as 1 gigabyte of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19920" y="5319720"/>
            <a:ext cx="1538280" cy="15382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Storage Devi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7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netic Tape Drives:  used for making backup copies of large volumes of da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y s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be used to replace data that may have been lost on the hard dr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k similar to audio tap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lds more than Flopp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16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cal discs:  use laser technology to read and write data on silver platt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D-ROM (Compact Disk Read-Only Memory) can store up to 800MB of information/dat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 can only read data from a C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 can store data on a CD only if you have a CD Burner and writable CDs (CD-R or recordable CD-RO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VD (Digital Versatile Disk) is the size of a regular CD and can be played in a regular CD or in a DVD movie play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s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group of programs that coordinate and control the resources and operations of a computer syste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ables all components of the computer system to communica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perating System (OS)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provide an interface between the user or application program and the computer hardw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n 95/98/2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c System 6/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tility program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elp you perform housekeeping chores; complete specialized tasks related to managing the computer’s resources, file management, and so 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UI (graphical user interfac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graphical symbol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(icons) represent files, disk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s, and other objec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3124080"/>
            <a:ext cx="828720" cy="8287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s that work with the OS software to help you use your computer to do specific types of wor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egor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ics and Multime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cation and Re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ertainment and Lei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grated Pro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siness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773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ord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am that allows you to create, edit, and print text docu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ort, flyer, mem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preadsh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mbered Rows and Lettered Colum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section of them =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ade book, financial inf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0" y="1295280"/>
            <a:ext cx="3849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atab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s you set up an electronic filing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er text and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, search, and printer info in different way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dress book, Card Catalo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648972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 with your modems or network hardware and allows your computer to communicate with other comput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 computer files and emai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raphics Softw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pictures or images to help communicate messag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56076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ultimedi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mbines text, graphics, animation, video, and aud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ip ar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graphical images to be added to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sktop Publish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ses both pictures and words to give you the ability to create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sletters and broch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ducation &amp; Refer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ilable on many top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i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ck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s: AR, Encyclopedia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95680" y="121932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ertainment &amp; Leis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mes and simul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s your ski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a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e several software applications into one progr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readsh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24280" y="13716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S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S OFF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tus SmartSu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4120" y="3733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nefits of Using Comput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315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ror-free calcul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stency and repet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313000" cy="23619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Computer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food and drinks away from the computer and keybo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dusty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 surge protect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magnets Aw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block vents on the CP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bright sunny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move the computer while it is in u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exit programs proper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 virus check program on a regular bas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715000" y="4876920"/>
            <a:ext cx="1981080" cy="16905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Diskette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remove from drives while drive in running or light is 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contact with magnets and electromagnetic fiel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disks stored in a clean, cool and dry place with a protective cov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protective metal slider in pl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 virus check program on a regular bas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hot and cold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a back-up copy of your programs and fi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095880" y="4876920"/>
            <a:ext cx="1819440" cy="18270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CD ROM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CDs stored in a clean, cool and dry place with a protective cov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touching the back side of the CD; to avoid scratch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hot and cold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a back-up copy of your programs and fi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ert into CD ROM Drive properly; label facing 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write on CD’s with a CD Marking Pen on a label or the correct side of the C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267080" y="4648320"/>
            <a:ext cx="2514600" cy="18968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Care of Prin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cold, hot, and dusty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use the correct ink or toner replace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have the proper printer cable connected to your compu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ver pull paper out of a printer in mo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turn off the printer while print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 the instruction manual before operating a prin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use the proper type of paper in your prin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648320" y="44197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to Maintain your Computer Syst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 a notebook of information on your system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ial numb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ndor support telephone numb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r I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e and vendor for each equipment and software purchas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ouble lo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iodically review disk directories and delete unneeded fi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ke sure all plug-ins are secure at all tim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urn off the power and disconnect the equipment form the power source before you open the inside of you comput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surrounding area dirt and dust fre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ck up files and data regularl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iodically defragment your hard dis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ect your system from computer viru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rn to use system diagnostic pro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rgonomi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cience of designing equipment for a comfortable and safe working environ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per Computer Ergonom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t up straight and lean forward slightly from the wais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your feet flat on the floo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r body should be about a hand’s length from the front of the keyboard and centered with the keyboar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your fingers on the home row keys and curve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your wrists up, not touching the keyboard or des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cus your eyes on the book, copy or scree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ce all materials you will type on the right side of the computer and supplies on the left sid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any items you are not using off your des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ccasionally rest your eyes and take short break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oid lights that cause glare on the monito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er System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ardw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the tangible, physical equipment that can be seen and touched such 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 C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board and Mo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k Dr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ak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2428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oftwa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the intangible set of instructions that tells the computer what to do; know as programs or software program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wo types:  application and system software pro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ata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information entered into the computer to be processed, which consists of the follow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xt, numbers, sounds, and im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eopl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the users of the computers who enter the data and use the outpu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s of Compu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percompu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most powerfu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do things like predict hurricanes and navigate satelli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ainframes and minicomput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used by business and government to process large amounts of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al comput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maller and less powerful than the other types of compu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638680" y="4952880"/>
            <a:ext cx="2514600" cy="15447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sonal Compu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esktop compu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designed to be used on a deskto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ebook/Tablet compu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designed to be used on a desktop but still small enough to be porta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ptop compu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signed to be small enough and light enough to be used on your la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495680" y="464832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dditional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Comput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DAs (Personal Digital Assistant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a handheld device that is often used in conjunction with a desktop or other P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have a special keyboard, some us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pen or stylus for entering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 Data can be transferred to a desktop or laptop compu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eb TV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provides easy access to the Internet without having to have a traditional compu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ables you to connect to the Internet and usually includes a keyboard or other device for entering and selecting dat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10280" y="2743200"/>
            <a:ext cx="1600200" cy="14349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Commun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technology that enables computers to communic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transmission of text, numeric, voice or video data from one machine to anoth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pular examp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net, electronic messages (e-mail), faxes, and electronic or online bank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 component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Send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computer that is sending the messa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ceiv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computer receiving the messa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hanne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media that carries or transports the message. (telephone wire, coaxial cable, microwave signal, or fiber opti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Protoc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rules that govern the orderly transfer of the data s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68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Commun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when computers are connected to other comp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can share information and sometimes hardware (prin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ocal Area Networks (LAN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computers connected together in a relatively close location such as in the same building or departm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ata and software for these computers are stored on a central computer called the file serv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Wide Area Networks (WAN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when local area networks are expanded to include several local area networks within a city, state, region, territory, country, continent, or the worl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952880" y="4800600"/>
            <a:ext cx="1905120" cy="1638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4T12:40:57Z</dcterms:created>
  <dc:creator>Kristy Christenberry</dc:creator>
  <dc:description/>
  <dc:language>en-US</dc:language>
  <cp:lastModifiedBy>WCPSS</cp:lastModifiedBy>
  <dcterms:modified xsi:type="dcterms:W3CDTF">2003-03-26T14:33:30Z</dcterms:modified>
  <cp:revision>89</cp:revision>
  <dc:subject/>
  <dc:title>Unit I: Computer Basics</dc:title>
</cp:coreProperties>
</file>