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media/image6.wmf" ContentType="image/x-wmf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67B0-EFEE-41BF-BBCA-CC4DC34D9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ED0E-8120-41F5-84F7-C7935B057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23CE-0374-4F45-84D8-97E6E98C8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7696-05AB-4D41-B4BA-800E7509A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7556A-AF8A-473E-9E3D-6735F4EA6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40235-8E1D-4026-ABAF-251FB9F7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A6BFD-7D18-43B9-A96A-13E56C2BF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F91B7-E8F8-4894-9EC5-8BA000597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7C456-7EE3-47F6-932C-CB2050DAE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C01C2-74E2-426D-AD2F-973F8D3C6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6DC8D-40BD-4098-BA0A-6722495F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092D-01BE-493B-A104-035C33CCD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4122A-174E-4A5A-A1DD-1FDBF9F4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BD810-E91D-48E4-92E2-473131A2B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73A01-8E6C-46B7-BDA2-6E8D76A5C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E9712-26E5-497F-A69E-71A4DFB36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04B4C-96CF-4894-BCCE-3066D54A1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BD31-EE66-42A8-89B9-02EF2CF1A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C803-DEBC-40DF-89AE-DB55113B5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22FE-263A-4CA2-AABD-70A25AA88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97B8-9EE4-4247-84ED-A5937C8B6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EFA1-DF6A-40B8-A021-6B2299FA6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B400-8BFE-46C8-962C-42D5CA298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5191-97AD-4C61-803F-B5F8B058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F264D-AE97-4BE0-A33C-C777EBEA6602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86EE3-8C7C-4E81-8DE4-58CB32D2DA3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marL="1085760" indent="-1085760" algn="ctr">
              <a:buClr>
                <a:srgbClr val="ffffcc"/>
              </a:buClr>
              <a:buFont typeface="Arial"/>
              <a:buAutoNum type="alphaU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Applications Software</a:t>
            </a: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990720" y="2819520"/>
            <a:ext cx="73152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7.00 Utilize multimedia/presentation graphics softwar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Unit Objectives 7.01-7.04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lanning a Present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escription of learner/audience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ge, target group, reading level, etc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ow will you gain attention and introduce the topic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Present objectives and standard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ow will you gather resources and information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re-media use preparati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ontent planning brainstorming and design layout brainstorming on paper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onsider the necessary equipment/materials/handout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Designing a Present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Keep it simpl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nclude words and imag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Nice big titl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Use words or phras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No sentences and no fine detai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on’t clutter the slid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Leave a lot of white (blank) spac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e consistent on all your slid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Use the same design templat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ame font styl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324480" y="1981080"/>
            <a:ext cx="2514600" cy="2089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2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20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20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20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Designing a Present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roject an imag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Use visuals to clarify or emphasize a point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o add variety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o change focu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Organize informati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t should be easy to follow such as in an outline format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ome right to the point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reate high contrast between the background and the tex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Use color wisel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e slides do something (animation/transitions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reating a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Basic Presentatio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tart your presentation program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reate a New Presentation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pply a template design that relates to the purpose of the presentation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057400" y="3886200"/>
            <a:ext cx="2819520" cy="25416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Identify the following parts of the presentation window.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itle bar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Menu bar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oolbar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Placeholder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tatus bar/Application bar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View buttons/tab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Drawing toolbar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Outline Page (PowerPoint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Notes page (PowerPoint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Minimize, Maximize/Restore, Close button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Explore the different tool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hoose design layout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dd text to the slid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dd additional slid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dd text and graphic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dd transition effect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dd animation to slid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heck spelling/grammar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View slides in a slide show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reating a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Basic Presentatio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ove the mouse pointer over each Toolbar button to display its pop up nam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lect a slide view that displays an individual slid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reate slides using relevant slide layouts provided by your softwar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heck your spelling and grammar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eturn to your first slid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hange the slide view to display all the slides in miniatur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Enhancing a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Basic Presentatio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nserting a graphic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reate a new slide and select a slide layout that contains a clip art placeholder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nsert relevant clip art or a file from a downloaded file from a disk/hard disk drive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reating a chart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reate a new slide and select a slide layout that contains a chart placeholder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lect the type of chart relevant to your presentation/data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Organizational char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Line, Bar, Pie Chart/Graph, etc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Enter data to create the chart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6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Enhancing a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Basic Presentatio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nserting a sound fil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ound can be added in several way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o run continuous during the presentation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o run during an object/text animation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o run during an object/text hyperlink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657600" y="45720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1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2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383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6" dur="75742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Enhancing a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Basic Presentatio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nserting Slide Transitions and Animation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xplore the different transition effects and speed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xplore the different animation effects for text and object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pply a transition effect for bulleted text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pply a different transition effect for objects/graphics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Explore the different orders of animation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pply the animation of a graphic before the text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dd a different sound effect to graphic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3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6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9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2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5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aving a Present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219320" y="2286000"/>
            <a:ext cx="2427120" cy="243828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1640" y="1752480"/>
            <a:ext cx="4267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Save the presentation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3657600"/>
            <a:ext cx="3962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hat is Multimedia/Presentation Graphics Software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2514240"/>
            <a:ext cx="82296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Multimedia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combines text, graphics, animation, video, and audio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Presentation Graphics Software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allows the user to create documents called slides to be used in making presentation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inting a Present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038480" y="1676520"/>
            <a:ext cx="42674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rint the presentati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xplore different printing option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lid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1 per page, 6 per page, etc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Outline view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andout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Note Pag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143000" y="2666880"/>
            <a:ext cx="2438280" cy="24386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876920" y="3657600"/>
            <a:ext cx="3962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Tips for Delivering a Presentatio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la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Know the purpose of your presentatio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lan your conten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know your audienc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repar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ave an attention-getting opene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e positiv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evelop a memorable closin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Outline your main point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elps you stay focuse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Tips for Delivering a Presentatio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alkin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on’t talk too slow or too fas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Watch your audience and take your cue from the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resen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ress professionally (proper business attire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ake eye contact, be natural and sincer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nvolve your audienc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Question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e sure to leave time at the end of your presentation to answer question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4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7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0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5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8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1" dur="20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2" dur="200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esenting a Present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Explore different slide show option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anual Slide Advancemen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utomatic Slide Advancemen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t up needed equipmen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lways do a test ru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istribute handouts or notes pages if neede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ake a deep breath and BEGIN!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ypes of Presentatio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nforma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verhead transparenci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rojection device attached to a compute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Virtua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resentations on the Interne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Uses of Multimedia/Presentation Graphics Software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ap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uilding Design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rawing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harts/Graph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eport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rochur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eeting Presentation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ducational Presentation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nformational Presentation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952880" y="220968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" dur="2000" fill="hold"/>
                                        <p:tgtEl>
                                          <p:spTgt spid="1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Advantages of Multimedia/Presentation Graphics Software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28600" y="2971800"/>
            <a:ext cx="3429000" cy="24130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581280" y="1828440"/>
            <a:ext cx="472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Enhancement of Text only messag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an help illustrate some topics better than static text or diagram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Portable and editabl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Distributable via the web and/or CD-ROM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Gains and holds attention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nteractivity can help learning proces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Entertaining as well as Educationa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Hyperlinks to other presentations, documents, and/or web sites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Multimedia/Presentation Graphics Terminology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Slide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- an individual screen in a slide show; the basic unit of a presentation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Title Slide –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generally the first slide in a presentation; introduces the presentation to the audience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Bulleted List Slide –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 type of slide layout that allows you to enter several levels of bulleted text; each level is formatted in a different point size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Presentation file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- the file you save to disk that contains all the slides, speaker’s notes, handouts, that make up your presentation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Object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- any element that appears on a slide, such as clip art, text, drawings, charts, sounds, and video clips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Slide show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- a series of slides displayed in sequence; controlled manually or automatically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Multimedia/Presentation Graphics Terminology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Transition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- a special effect used to introduce a slide during a slide show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Outlining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- allows you quickly to create your presentation using an outline format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Graphing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- allows you to create and insert charts into your presentation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Drawing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- allows you to create diagrams using shapes such as arcs, arrows, cubes, rectangles, stars, and triangle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Multimedia effects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- adds interest and keeps your audience attentive by adding effects, such as sound and video to your presentation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Multimedia/Presentation Graphics Terminology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Design template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- provides consistency in design and color throughout the entire presentation; determines the color scheme, font and font size, and layout of your presentation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Attributes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- the properties or characteristics of an object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Placeholders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- empty objects on a new slide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Audience handouts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- printouts of your electronic presentation that your audience can use to follow along and to take note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Speaker notes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- notes that include the slide as well as comments or points you may want to remember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Multimedia/Presentation Graphics Terminology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Menu bar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- list each of the menus in applications and usually appears near the top of the application window under the window title bar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Toolbar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- provide quick access to frequently used commands; a lot of the buttons are the same from program to program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Toolbox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- resembles a toolbar, but hold items such as drawing tools rather than buttons that perform command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Hyperlink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- a link you click to display another webpage or document with in a presentation; can consist of specially formatted text, buttons, and hotspots on graphics or picture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5T20:47:28Z</dcterms:created>
  <dc:creator>Beaufort County Schools</dc:creator>
  <dc:description/>
  <dc:language>en-US</dc:language>
  <cp:lastModifiedBy>WCPSS</cp:lastModifiedBy>
  <dcterms:modified xsi:type="dcterms:W3CDTF">2003-03-31T16:59:28Z</dcterms:modified>
  <cp:revision>42</cp:revision>
  <dc:subject/>
  <dc:title>Slide 1</dc:title>
</cp:coreProperties>
</file>