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4FB-47B5-4EFE-8220-4E46B5C1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FA1-CB0C-4057-B212-DE9707C9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1F8-ED73-4EA1-8886-678DA994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B71-7FBC-4673-8DE3-75647F2A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02C6-95B6-46DB-A23C-19946F4F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CE9-2A26-4426-B55D-56B09B32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0C5D-3316-44F3-A329-280EA64D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DC00-F3F6-4B12-86F8-812CDFA5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AD14-D014-4655-9B50-7F402280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ECB-29AE-4686-B48B-2177F54D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CE11-DFF5-4DE9-8599-22F28A91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B3C-FF33-4938-B37A-A7BD7328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69A5-DF60-42C8-9E40-E8C10BB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7D1A-51F3-42E9-A72B-3990781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6249-22B9-4405-8F64-06526E8B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5489-3790-423A-9025-7D005CBF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13E9-5F3C-4E00-9600-7F039F7D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A1F-B8AD-4DAA-A8DC-54865DB1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7C9-D1E6-4339-84FC-8E9EAE4C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477-2471-40AF-ABBC-74D4F5C1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156-36AD-43BA-920C-885D2688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DB0-61BF-41DD-B55F-B337EF54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1EA-16AB-4E7F-B02E-F4C7DEB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025-358A-4158-9A7F-E3EA2047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2D5B-264D-413E-9EAD-822377719DE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2CC4-6C51-41D2-B802-B4E649D4B13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85760" indent="-1085760" algn="ctr">
              <a:buClr>
                <a:srgbClr val="ffffcc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pplications Softwar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.00 Utilize multimedia/presentation graphics softwa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it Objectives 7.01-7.0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cription of learner/audie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ge, target group, reading level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in attention and introduce the topi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sent objectives and standar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ther resources and inform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-media use prepa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ent planning brainstorming and design layout brainstorming on pap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ider the necessary equipment/materials/handou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eep it sim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lude words and im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ice big tit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words or phr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sentences and no fine deta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n’t clutter the sli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ve a lot of white (blank) sp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consistent on all your sli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the same design templ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me font sty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514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ject an im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se visuals to clarify or emphasize a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add varie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change focu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ganize inform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should be easy to follow such as in an outline forma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e right to the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 high contrast between the background and the tex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color wise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slides do something (animation/transi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rt your presentation progra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a New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a template design that relates to the purpose of the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2819520" cy="25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dentify the following parts of the presentation window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tle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enu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cehol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tus bar/Application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buttons/tab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rawing 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line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tes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ize, Maximize/Restore, Close but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tool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oose design layou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to the slid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dditional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and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ransition effec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nimation to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ck spelling/gramm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slides in a slide sh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ve the mouse pointer over each Toolbar button to display its pop up nam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a slide view that displays an individual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slides using relevant slide layouts provided by your softwa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ck your spelling and gramma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urn to your first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ange the slide view to display all the slides in minia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serting a graphi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lip 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sert relevant clip art or a file from a downloaded file from a disk/hard disk driv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ing a char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h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lect the type of chart relevant to your presentation/dat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rganizational char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e, Bar, Pie Chart/Graph,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 data to create the char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a sound fi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und can be added in several way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continuous during the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anim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hyperlink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7574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Slide Transitions and Anima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transition effects and spee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animation effects for text and objec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transition effect for bulleted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different transition effect for objects/graphic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orders of anim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the animation of a graphic before the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 different sound effect to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v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42712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ave the presenta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Multimedia/Presentation Graphics Softwar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Multimedi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combines text, graphics, animation, video, and audi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resentation Graphics Softwa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llows the user to create documents called slides to be used in making present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nt the pres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ore different printing op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i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 per page, 6 per page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utline vie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ndou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e P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the purpose of your present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 your cont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your audi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p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ve an attention-getting open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posi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elop a memorable clos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tline your main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lps you stay foc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lk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n’t talk too slow or too fa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ch your audience and take your cue from t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ess professionally (proper business attir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ke eye contact, be natural and since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olve your audi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 sure to leave time at the end of your presentation to answer ques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e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lore different slide show op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ual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t up needed equip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ways do a test ru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tribute handouts or notes pages if nee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deep breath and BEGIN!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ypes of Presen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f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verhead transparenc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jection device attached to a compu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rtu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ations on the Intern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ses of Multimedia/Presentation Graphics Softwar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ing Desig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w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rts/Graph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roch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eting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duc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form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 of Multimedia/Presentation Graphics Softwa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3429000" cy="241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1280" y="1828440"/>
            <a:ext cx="472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hancement of Text only messag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n help illustrate some topics better than static text or diagr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rtable and edit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tributable via the web and/or CD-R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ins and holds atten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activity can help learning proce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taining as well as Education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yperlinks to other presentations, documents, and/or web si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 individual screen in a slide show; the basic unit of a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itle Slide –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enerally the first slide in a presentation; introduces the presentation to the audienc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ulleted List Slide –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type of slide layout that allows you to enter several levels of bulleted text; each level is formatted in a different point siz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ation fil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the file you save to disk that contains all the slides, speaker’s notes, handouts, that make up your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bjec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y element that appears on a slide, such as clip art, text, drawings, charts, sounds, and video clip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 show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 series of slides displayed in sequence; controlled manually or automaticall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ransitio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special effect used to introduce a slide during a slide sho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Outlin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quickly to create your presentation using an outline form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raph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and insert charts into your presentatio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raw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diagrams using shapes such as arcs, arrows, cubes, rectangles, stars, and triang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ultimedia effec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dds interest and keeps your audience attentive by adding effects, such as sound and video to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esign templat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s consistency in design and color throughout the entire presentation; determines the color scheme, font and font size, and layout of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ttribu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the properties or characteristics of an objec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Placeholde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empty objects on a new sl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udience handou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intouts of your electronic presentation that your audience can use to follow along and to take not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peaker no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notes that include the slide as well as comments or points you may want to rememb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enu 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list each of the menus in applications and usually appears near the top of the application window under the window title b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 quick access to frequently used commands; a lot of the buttons are the same from program to progra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ox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resembles a toolbar, but hold items such as drawing tools rather than buttons that perform comman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yperlin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link you click to display another webpage or document with in a presentation; can consist of specially formatted text, buttons, and hotspots on graphics or pictur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20:47:28Z</dcterms:created>
  <dc:creator>Beaufort County Schools</dc:creator>
  <dc:description/>
  <dc:language>en-US</dc:language>
  <cp:lastModifiedBy>WCPSS</cp:lastModifiedBy>
  <dcterms:modified xsi:type="dcterms:W3CDTF">2003-03-31T16:59:28Z</dcterms:modified>
  <cp:revision>42</cp:revision>
  <dc:subject/>
  <dc:title>Slide 1</dc:title>
</cp:coreProperties>
</file>