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94D0-54EE-4139-9D25-F08FE4B0D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A727-AFFE-415C-A1F4-90F28A27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572-159B-4334-A17A-2FFE93166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721-208E-4433-AB12-3B6262D68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CEA5-A195-4BCD-A329-F1C3917D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0C267-4A2F-4E91-A8C6-4A0C643B1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8A7F9-817F-4706-B464-E75A15E00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E8A45-0F47-489D-AB95-C71286367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9E2D-A99E-4FFA-86B0-3757F392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5392-008F-4752-9AF6-CE9FE8C9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48B4-D186-4340-B4AE-B150345F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7919-425A-45B4-AA68-658B08E2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23EC-F094-48B4-8F8D-2A29C0B4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90E0-23A7-4818-9D9A-881C4FF0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1E666-0C94-4E21-BB34-218850A03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0929-B832-43FF-AC5B-96F29CC5B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3841-AAF2-421F-A99C-10D1F4DB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A5D8-EB58-48DC-9A77-6E6059EB4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53EE-4113-4D6A-802E-AA65D5259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8702-EBCE-4217-9590-77A383C82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5A41-E89C-493D-8C19-F905E5162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4B4B-31C5-4037-89E0-D306EC3B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E7F8-C7FB-4375-B506-1B8BF5FD7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6F2-AE88-4019-962B-2D4658BF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644A5-F805-4C5A-9027-D3E527ADDA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78AAD-F5AF-44CE-A142-CD952998FC6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21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marL="1085760" indent="-1085760" algn="ctr">
              <a:buClr>
                <a:srgbClr val="ffffcc"/>
              </a:buClr>
              <a:buFont typeface="Arial"/>
              <a:buAutoNum type="alphaU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Applications Software</a:t>
            </a:r>
            <a:br>
              <a:rPr sz="5100"/>
            </a:br>
            <a:r>
              <a:rPr b="0" lang="en-US" sz="5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51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90720" y="2819520"/>
            <a:ext cx="73152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7.00 Utilize multimedia/presentation graphics software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Unit Objectives 7.01-7.04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lan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escription of learner/audience 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ge, target group, reading level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in attention and introduce the topic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resent objectives and standard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ow will you gather resources and information?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e-media use prepar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ntent planning brainstorming and design layout brainstorming on pape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onsider the necessary equipment/materials/handou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eep it simpl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clude words and im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ice big titl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Use words or phras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 sentences and no fine detai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on’t clutter the slid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Leave a lot of white (blank) spa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consistent on all your slid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the same design templat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ame font styl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324480" y="1981080"/>
            <a:ext cx="2514600" cy="208944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3" dur="2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6" dur="2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4" dur="2000"/>
                                        <p:tgtEl>
                                          <p:spTgt spid="1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1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Design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Project an imag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Use visuals to clarify or emphasize a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add variety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change focu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rganize information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t should be easy to follow such as in an outline forma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ome right to the poin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e high contrast between the background and the tex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Use color wisely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e slides do something (animation/transitions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3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6" dur="500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4" dur="500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75212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tart your presentation program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a New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pply a template design that relates to the purpose of the presentation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057400" y="3886200"/>
            <a:ext cx="2819520" cy="25416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Identify the following parts of the presentation window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itle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enu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laceholder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tatus bar/Application 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buttons/tab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rawing toolb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Outline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Notes page (PowerPoint)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Minimize, Maximize/Restore, Close button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tool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oose design layou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to the slid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dditional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ext and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transition effect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nimation to sli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heck spelling/grammar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View slides in a slide show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reat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ove the mouse pointer over each Toolbar button to display its pop up nam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lect a slide view that displays an individual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reate slides using relevant slide layouts provided by your softwa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eck your spelling and grammar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Return to your first slid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Change the slide view to display all the slides in miniatur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4" dur="5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serting a graphic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lip 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sert relevant clip art or a file from a downloaded file from a disk/hard disk driv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reating a char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reate a new slide and select a slide layout that contains a chart placeholder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lect the type of chart relevant to your presentation/data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Organizational char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Line, Bar, Pie Chart/Graph, etc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 data to create the chart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6" dur="5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2" dur="5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a sound file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ound can be added in several way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continuous during the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anim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To run during an object/text hyperlink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657600" y="457200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6" dur="75742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Enhancing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Basic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Inserting Slide Transitions and Animations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transition effects and spee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xplore the different animation effects for text and object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transition effect for bulleted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a different transition effect for objects/graphics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xplore the different orders of anima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pply the animation of a graphic before the text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dd a different sound effect to graphic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av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2427120" cy="24382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1640" y="1752480"/>
            <a:ext cx="42670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Save the presentation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is Multimedia/Presentation Graphics Software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514240"/>
            <a:ext cx="8229600" cy="414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Multimedia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combines text, graphics, animation, video, and audio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eaeaea"/>
                </a:solidFill>
                <a:uFillTx/>
                <a:latin typeface="Verdana"/>
              </a:rPr>
              <a:t>Presentation Graphics Software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allows the user to create documents called slides to be used in making presentations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i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038480" y="1676520"/>
            <a:ext cx="42674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int the presentatio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Explore different printing op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Slid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1 per page, 6 per page, etc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Outline view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Handou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Note Pag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2438280" cy="24386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876920" y="3657600"/>
            <a:ext cx="39621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blinds dir="horz"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3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lan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the purpose of your presentatio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lan your cont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know your audienc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Prepar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ave an attention-getting open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 positiv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velop a memorable clos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utline your main point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Helps you stay focused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2" dur="5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1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Tips for Delivering a Presentation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Talking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on’t talk too slow or too fast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Watch your audience and take your cue from them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ess professionally (proper business attire)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ke eye contact, be natural and sincer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volve your audience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Question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e sure to leave time at the end of your presentation to answer ques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4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0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5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8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1" dur="2000"/>
                                        <p:tgtEl>
                                          <p:spTgt spid="1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2" dur="20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Presenting a Presentation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xplore different slide show opt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anual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utomatic Slide Advancemen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t up needed equipmen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Always do a test ru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Distribute handouts or notes pages if neede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ake a deep breath and BEGIN!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ypes of Presentation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229600" cy="49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Inform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Overhead transparenci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lectronic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ojection device attached to a comput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Virtua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Presentations on the Internet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Uses of Multimedia/Presentation Graphics Software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ap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uilding Desig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Drawing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harts/Graph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Report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rochure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Meeting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Educ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Informational Presentations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952880" y="220968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blinds dir="horz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Advantages of Multimedia/Presentation Graphics Software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28600" y="2971800"/>
            <a:ext cx="3429000" cy="241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581280" y="1828440"/>
            <a:ext cx="4724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hancement of Text only messag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Can help illustrate some topics better than static text or diagram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Portable and editable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Distributable via the web and/or CD-ROM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ains and holds attention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Interactivity can help learning proces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Entertaining as well as Education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Hyperlinks to other presentations, documents, and/or web site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 individual screen in a slide show; the basic unit of a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Title Slide – 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generally the first slide in a presentation; introduces the presentation to the audienc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Bulleted List Slide –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a type of slide layout that allows you to enter several levels of bulleted text; each level is formatted in a different point size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Presentation file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the file you save to disk that contains all the slides, speaker’s notes, handouts, that make up your presentation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Object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ny element that appears on a slide, such as clip art, text, drawings, charts, sounds, and video clips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Verdana"/>
              </a:rPr>
              <a:t>Slide show</a:t>
            </a: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 - a series of slides displayed in sequence; controlled manually or automatically.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ransition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special effect used to introduce a slide during a slide show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Outlin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quickly to create your presentation using an outline forma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Graph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and insert charts into your presentation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rawing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llows you to create diagrams using shapes such as arcs, arrows, cubes, rectangles, stars, and triangl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ultimedia effec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dds interest and keeps your audience attentive by adding effects, such as sound and video to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Design template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s consistency in design and color throughout the entire presentation; determines the color scheme, font and font size, and layout of your presentation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ttribu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the properties or characteristics of an object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Placeholder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empty objects on a new slide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Audience handout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intouts of your electronic presentation that your audience can use to follow along and to take not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Speaker notes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notes that include the slide as well as comments or points you may want to remembe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Multimedia/Presentation Graphics Terminology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Menu 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list each of the menus in applications and usually appears near the top of the application window under the window title bar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ar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provide quick access to frequently used commands; a lot of the buttons are the same from program to program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Toolbox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resembles a toolbar, but hold items such as drawing tools rather than buttons that perform command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Verdana"/>
              </a:rPr>
              <a:t>Hyperlink</a:t>
            </a: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 - a link you click to display another webpage or document with in a presentation; can consist of specially formatted text, buttons, and hotspots on graphics or pictures.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blinds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5T20:47:28Z</dcterms:created>
  <dc:creator>Beaufort County Schools</dc:creator>
  <dc:description/>
  <dc:language>en-US</dc:language>
  <cp:lastModifiedBy>WCPSS</cp:lastModifiedBy>
  <dcterms:modified xsi:type="dcterms:W3CDTF">2003-03-31T16:59:28Z</dcterms:modified>
  <cp:revision>42</cp:revision>
  <dc:subject/>
  <dc:title>Slide 1</dc:title>
</cp:coreProperties>
</file>