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.gif" ContentType="image/gif"/>
  <Override PartName="/ppt/media/image8.png" ContentType="image/png"/>
  <Override PartName="/ppt/media/image16.wmf" ContentType="image/x-wmf"/>
  <Override PartName="/ppt/media/image20.png" ContentType="image/png"/>
  <Override PartName="/ppt/media/image2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DFF-8B73-466B-9810-12C39739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4F4-844E-44BD-8728-3C98862F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2CD-DCC3-4B25-B378-7C4B1F42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83C-6F80-408C-B08E-509CAF53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B7C9-9E17-42A7-BD3E-82F57230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0D0A-2E96-443D-B2AA-298861BC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713A-D5DD-423C-8968-15C2ACC8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768C-D96C-4F0B-950A-51A218C8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8F51-E01A-4B98-B64B-1FA5989E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D0CC-CA38-4BDA-BF41-8493C21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95B6-EC1F-4293-AE05-CFE05726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ACA-282D-4B32-BEDB-7D16E412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8BCB-E96C-4AE3-83D4-ED2C9160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DE6D-E41A-4BE2-9304-AC9BC315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6B39-653D-423C-9C76-AEA1590A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0046-EEAB-4614-B26F-773B9083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BE8C-9B5A-473D-A791-DDDD5807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076-158B-44FC-B3FE-8B7C3300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410D-B0EB-4F0C-AE81-4D5F4913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CF3-00D0-4015-A692-4A68E8A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C6F-9E2D-4EF4-BC71-69052173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501-5CF6-4EAE-A586-DBB116A8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833-6C28-4A46-B73B-3470510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EFD-9F65-47A6-B273-576CF88A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E134-0B13-4B3A-AB24-751897CB79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C7F6-4E27-41D4-86A9-F2807C6E7D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-graphics.net/cgi-bin/imageFoliopro.cgi?action=view&amp;link=3D_Animations/computers&amp;image=3.gif&amp;img=&amp;tt=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t-free-clipart.com/gallery/album14/tastatur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animationfactory.com/free/business/miscellaneous_variant_page_workstation_office_chair_spinning.html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Comic Sans MS"/>
              </a:rPr>
              <a:t>Business Computer Technolog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Competency 3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Reinforcing Keyboarding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And Document 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1360" y="2743200"/>
            <a:ext cx="35812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Repetitive Stress Inju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8080" y="2209680"/>
            <a:ext cx="8737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Repetitive Stress Injuries can occur when some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performs a task repeatedly causing the build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of irritating waste products in the musc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Examples of these injuries are Carpal Tunn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yndrome and DeQuervain’s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Carpal Tunnel Syndrom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-311760" y="2209680"/>
            <a:ext cx="95900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i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is the entrapment of the median nerve in the carpal tunnel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TS occurs due to the swelling of the median nerve or the tendons of the wri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cause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occurs from using the computer for hours without prop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ody posture and improper techniqu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are the symptoms of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Pain- tingling – numbness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 thumb, index, and midd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ngers – weakness and sw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of the wrist and h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4114800"/>
            <a:ext cx="2144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DeQuervain’s Disea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-47160" y="2238480"/>
            <a:ext cx="936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DeQuervain’s Disease is an overuse injur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humb extensor tendons.  It often occurs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etitive tapping of the space b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S01183_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73204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 3.0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Fundamental Document Proc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Personal-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nvelo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emorand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orts &amp; Supporting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BD04902_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e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Business Letter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is a letter that is sent from one business or organization to another.  Business letters are usually keyed on 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letterhead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which is located across the top of the page.  The letterhead can consist of the business’ name, address, phone/fax/email, and lo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Footlight MT Light"/>
              </a:rPr>
              <a:t>Personal-Business Letter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 is a letter that is sent from an individual to a person, business, or organ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Reasons for Send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Request Inform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ank you Let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Apply for a j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mplain about a product or serv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ver letter for a resu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Follow up to a job intervi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Tips for Writ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Keep the message short and to the point but don’t be r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First paragraph should explain why you are writing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econd paragraph should give the information and details to explain the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ird paragraph should be the closing and should state the action that you wish to result from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4120" y="685800"/>
          <a:ext cx="538164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85800"/>
                    <a:ext cx="538164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86760" y="6858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eturn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3080" y="99072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Dat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3040" y="18525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Inside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27400" y="2538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Sal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4320" y="3576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3320" y="51814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Complimentary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080" y="541008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John Smi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55627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Sign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586728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Keyed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81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Letter Par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685800"/>
          <a:ext cx="5487840" cy="56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548784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705680" y="129528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93080" y="2286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3080" y="2666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50480" y="4952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72160" y="548640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2720" y="2362320"/>
            <a:ext cx="24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SS paragrap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in body-DS betwe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90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 &amp;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pac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of a Lette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9800" y="3459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2-2 ½” Top Mar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Envelo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Parts:  mailing address, return add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tyles:  traditional and OC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pecial Notations:  mailing notations (REGISTERED, SPECIAL DELIVERY), handling notations (PERSONAL, HOLD FOR ARRIVAL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izes:  Small (#6 ¾) and Large (#10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BD09982_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704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</a:t>
            </a: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 3.0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 Lay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rrangement of Key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ouch Typing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Line Spacing 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rgono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053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arts of a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1143000"/>
          <a:ext cx="563904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563904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27240" y="16002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Guide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10360" y="3581280"/>
            <a:ext cx="8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8640" y="495288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Reference Init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334120"/>
            <a:ext cx="48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Attachment 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053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t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a 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0880"/>
            <a:ext cx="62485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1143000"/>
          <a:ext cx="563868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563868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345840" y="1171440"/>
            <a:ext cx="303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re typed in bold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all caps, and followed by a col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29280" y="1981080"/>
            <a:ext cx="31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 between each line of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nd before the bod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9400" y="4648320"/>
            <a:ext cx="26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SS within the paragraph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of the body and DS betw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36840" y="482904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36840" y="513396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73200" y="60948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-1 1/2” top mar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60" y="2339640"/>
            <a:ext cx="39348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 side marg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Re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Un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 reports that are prepared without binders or covers; margins are set at 1” for the top, bottom, and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Left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multi-page reports that are bound or stapled on the left side of the pages; the left margin is set wider (usually 1 ½” to allow space for bi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HH00805_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780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Supporting Doc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Title Pag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presented as the first page of a report and includes the title, the writer’s name, date, the course, and teacher’s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Outlin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usually placed after the title page and before the first page of the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Bibliography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an alphabetical list of sources of information used in writing a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196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-229320" y="2190600"/>
            <a:ext cx="959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ing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The process of comparing a cop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on screen or paper to the original copy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arking errors f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er Marks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Marks that are us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correct a 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j0079052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19810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Ways to Proof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Use the software’s spell che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on scr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from a hard co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witch with a 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BD04915_" descr=""/>
          <p:cNvPicPr/>
          <p:nvPr/>
        </p:nvPicPr>
        <p:blipFill>
          <a:blip r:embed="rId1"/>
          <a:stretch/>
        </p:blipFill>
        <p:spPr>
          <a:xfrm>
            <a:off x="508644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Proofreading Proced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-754200" y="2133720"/>
            <a:ext cx="1048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Use the spell check and grammar feature on your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ofread the document on scre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eview the document using print preview.  Check the vert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horizontal placement as well as the overall appearanc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your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to the document and print a hard cop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ompare the hard copy to the source copy if possible and/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e someone else proofread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evise and correct errors if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and print the final copy of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09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13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5" name="waiting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-212040" y="2362320"/>
            <a:ext cx="964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GWAM:  (Gross Words A Minute) the number of keystrokes a typist can make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 timed peri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ve characters (letters, numbers, punctuation, spaces, etc.) equal one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ord in keyboard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 calculate GWAM divide the total number of words keyed by the number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inutes that the typist was ti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94280" y="5638680"/>
            <a:ext cx="79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Your goal now is to continue practicing good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and to improve your speed and accuracy throughout this cou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93040" y="2057400"/>
            <a:ext cx="837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am trying to get the hang of this new fangled wri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hine, but I am not making a shining success of i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ever, this is the first attempt I ever have ma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yet I perceive that I shall soon &amp; easily acquire a f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ility in its use…One chiefly needs swiftness in bang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keys…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rk Twain’s first typewritten lett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mber 9, 187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BS01003_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2286000" cy="2084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A quote to leave you with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What is Keyboarding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 ability to enter text by using the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fingers without looking at the keys (aka-touch typi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ing adequate keyboarding skills will enable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o use the computer more effectively and be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duc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e will continue to practice and develop your skill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 well as, improve your speed and accura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BD06940_" descr=""/>
          <p:cNvPicPr/>
          <p:nvPr/>
        </p:nvPicPr>
        <p:blipFill>
          <a:blip r:embed="rId1"/>
          <a:stretch/>
        </p:blipFill>
        <p:spPr>
          <a:xfrm>
            <a:off x="7391520" y="990720"/>
            <a:ext cx="13762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Layou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e central portion that consists of the alphanumeric k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er section to the right contains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 set of function and directional keys between the letters and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row of function keys across the top used for computer com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371600"/>
            <a:ext cx="27432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Arrange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" y="2286000"/>
            <a:ext cx="807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The most common arrange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of keyboards is the QWERT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keyboar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Techniq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aintain good pos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body centered with the G/H ke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wrists low but not touching the keyboard or t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Use correct fingering based on the home row keys keeping fingers curved and upr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y at a steady p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copy at your s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eyes on your co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y on task and have a positive attitude toward improving your tech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2224080"/>
            <a:ext cx="4038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ine Spac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25720" y="175248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ndard Paper Size:  8 ½ x 11 in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5640" y="2438280"/>
            <a:ext cx="407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re are 66 lines per p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x lines equals one vertical in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840" y="3124080"/>
            <a:ext cx="33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Line Spacing:  the spac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etween lines of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7360" y="4191120"/>
            <a:ext cx="50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ngle Spacing (SS)-Enter on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Double Spacing (DS)-Enter two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riple Spacing (TS)-Enter thre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Quadruple Spacing (QS)-Enter four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BS01636_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2286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1337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e science of designing equipment and workspace for a comfortable and safe working environm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D05559_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828880" cy="263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76200" y="621648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ell, maybe not quite this comf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117" name=""/>
            <p:cNvSpPr/>
            <p:nvPr/>
          </p:nvSpPr>
          <p:spPr>
            <a:xfrm>
              <a:off x="0" y="2849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849400"/>
              <a:ext cx="9144000" cy="1158840"/>
              <a:chOff x="0" y="2849400"/>
              <a:chExt cx="9144000" cy="11588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849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849400"/>
                <a:ext cx="9144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ffcc66"/>
                    </a:solidFill>
                    <a:uFillTx/>
                    <a:latin typeface="Arial"/>
                    <a:ea typeface="Arial"/>
                    <a:hlinkClick r:id="rId2"/>
                  </a:rPr>
                  <a:t>  </a:t>
                </a:r>
                <a:r>
                  <a:rPr b="0" lang="en-US" sz="6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 Ti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p 1/3 of monitor should be at ey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Elbows &amp; knees should be positioned at 90-110 degre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up straight, but relax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eet should be suppor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at least 24 inches away from the moni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rists should be in a neutral position while typing or using the mouse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ake frequent brea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void glare on the computer 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0388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23:03:52Z</dcterms:created>
  <dc:creator>Robert Latham</dc:creator>
  <dc:description/>
  <dc:language>en-US</dc:language>
  <cp:lastModifiedBy>WCPSS</cp:lastModifiedBy>
  <dcterms:modified xsi:type="dcterms:W3CDTF">2003-03-26T18:46:12Z</dcterms:modified>
  <cp:revision>31</cp:revision>
  <dc:subject/>
  <dc:title>BCT</dc:title>
</cp:coreProperties>
</file>