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1.gif" ContentType="image/gif"/>
  <Override PartName="/ppt/media/image8.png" ContentType="image/png"/>
  <Override PartName="/ppt/media/image16.wmf" ContentType="image/x-wmf"/>
  <Override PartName="/ppt/media/image20.png" ContentType="image/png"/>
  <Override PartName="/ppt/media/image2.jpeg" ContentType="image/jpeg"/>
  <Override PartName="/ppt/media/image21.wmf" ContentType="image/x-wmf"/>
  <Override PartName="/ppt/media/image19.wmf" ContentType="image/x-wmf"/>
  <Override PartName="/ppt/media/image18.wmf" ContentType="image/x-wmf"/>
  <Override PartName="/ppt/media/image15.wmf" ContentType="image/x-wmf"/>
  <Override PartName="/ppt/media/image1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F02A-1E41-49E1-9126-9B009BFEF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94AD-7A4D-4ED1-B2B8-597D5D459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945E-D3B1-4B6D-93C9-43A339778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07C4-5AC6-459D-92BB-164D84442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17DF-CFD1-4013-9C2A-12170B641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58E3C-8469-4312-916F-4F400C4E1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3E168-AE35-4A9E-9918-F58096455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3B949-AC5A-49E6-AB76-1A13169A3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8217-7F20-46A4-AAC6-C08374C9F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E0ABB-A55F-4D45-8857-A7393F256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BFA37-0F1C-403F-B1CE-C91FA469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B5B5-D46F-4C02-A8D2-9E436CA4A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9102E-57DE-42F5-8384-36E173676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7A92-90B8-44BB-A363-3F1F199D1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3D916-6DE4-40D7-BE95-F6EB8C56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4FD5C-63F1-4ABF-9F6D-2F709D6AF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CFBA7-BC90-464C-8284-E8BB56C87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A752-5AAF-4E56-9773-CF7DEFAF9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F4D4-BBC4-4D76-94FB-0FA8DCB5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B0CB-F5C5-424F-87FD-EE49EEF9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3FCC-7D05-40C4-AB8A-CF5661F7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75F5-83B3-434D-B8CC-705EDED3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F72D-5AE0-4FD1-87C9-F8076402C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EE91-FBA3-4077-8FD0-B01C7196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77794-27A1-4A30-B82C-59B691552B2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48AB6-D20A-4300-B653-8E730F15D8B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lipart-graphics.net/cgi-bin/imageFoliopro.cgi?action=view&amp;link=3D_Animations/computers&amp;image=3.gif&amp;img=&amp;tt=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et-free-clipart.com/gallery/album14/tastatur1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animationfactory.com/free/business/miscellaneous_variant_page_workstation_office_chair_spinning.html" TargetMode="External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Comic Sans MS"/>
              </a:rPr>
              <a:t>Business Computer Technology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Footlight MT Light"/>
              </a:rPr>
              <a:t>Competency 3.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Footlight MT Light"/>
              </a:rPr>
              <a:t>Reinforcing Keyboarding Techni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Footlight MT Light"/>
              </a:rPr>
              <a:t>And Document Process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81360" y="2743200"/>
            <a:ext cx="3581280" cy="19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Repetitive Stress Injuri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18080" y="2209680"/>
            <a:ext cx="8737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Repetitive Stress Injuries can occur when someon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performs a task repeatedly causing the build u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of irritating waste products in the musc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Examples of these injuries are Carpal Tunne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Syndrome and DeQuervain’s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Carpal Tunnel Syndrom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-311760" y="2209680"/>
            <a:ext cx="959004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What is CT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It is the entrapment of the median nerve in the carpal tunnel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CTS occurs due to the swelling of the median nerve or the tendons of the wris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What causes CT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It occurs from using the computer for hours without prop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body posture and improper techniqu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What are the symptoms of CT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Pain- tingling – numbness i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the thumb, index, and midd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fingers – weakness and swel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of the wrist and h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553080" y="4114800"/>
            <a:ext cx="21448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DeQuervain’s Diseas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-47160" y="2238480"/>
            <a:ext cx="9364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DeQuervain’s Disease is an overuse injury of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thumb extensor tendons.  It often occurs fro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repetitive tapping of the space b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BS01183_" descr=""/>
          <p:cNvPicPr/>
          <p:nvPr/>
        </p:nvPicPr>
        <p:blipFill>
          <a:blip r:embed="rId1"/>
          <a:stretch/>
        </p:blipFill>
        <p:spPr>
          <a:xfrm>
            <a:off x="5791320" y="4038480"/>
            <a:ext cx="2732040" cy="26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Objective 3.02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ootlight MT Light"/>
              </a:rPr>
              <a:t>Fundamental Document Process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Business Let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Personal-Business Let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Envelop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Memorandu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Reports &amp; Supporting Docu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BD04902_" descr=""/>
          <p:cNvPicPr/>
          <p:nvPr/>
        </p:nvPicPr>
        <p:blipFill>
          <a:blip r:embed="rId1"/>
          <a:stretch/>
        </p:blipFill>
        <p:spPr>
          <a:xfrm>
            <a:off x="6095880" y="3581280"/>
            <a:ext cx="2514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Le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A </a:t>
            </a:r>
            <a:r>
              <a:rPr b="1" lang="en-US" sz="2400" spc="-1" strike="noStrike" u="sng">
                <a:solidFill>
                  <a:srgbClr val="ff9900"/>
                </a:solidFill>
                <a:uFillTx/>
                <a:latin typeface="Footlight MT Light"/>
              </a:rPr>
              <a:t>Business Letter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 is a letter that is sent from one business or organization to another.  Business letters are usually keyed on a </a:t>
            </a:r>
            <a:r>
              <a:rPr b="1" lang="en-US" sz="2400" spc="-1" strike="noStrike" u="sng">
                <a:solidFill>
                  <a:srgbClr val="ff9900"/>
                </a:solidFill>
                <a:uFillTx/>
                <a:latin typeface="Footlight MT Light"/>
              </a:rPr>
              <a:t>letterhead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 which is located across the top of the page.  The letterhead can consist of the business’ name, address, phone/fax/email, and log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A 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Footlight MT Light"/>
              </a:rPr>
              <a:t>Personal-Business Letter</a:t>
            </a: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 is a letter that is sent from an individual to a person, business, or organiz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Reasons for Sending </a:t>
            </a:r>
            <a:br>
              <a:rPr sz="3600"/>
            </a:b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a Personal-Business Letter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Request Inform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Thank you Lett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Apply for a jo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Complain about a product or servi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Cover letter for a resum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Follow up to a job interview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Tips for Writing </a:t>
            </a:r>
            <a:br>
              <a:rPr sz="3600"/>
            </a:b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a Personal-Business Letter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Keep the message short and to the point but don’t be ru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First paragraph should explain why you are writing the le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Second paragraph should give the information and details to explain the sit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Third paragraph should be the closing and should state the action that you wish to result from the le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8600" y="380880"/>
            <a:ext cx="594360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84120" y="685800"/>
          <a:ext cx="5381640" cy="549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685800"/>
                    <a:ext cx="5381640" cy="54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886760" y="68580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Return Ad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73080" y="99072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Datel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63040" y="1852560"/>
            <a:ext cx="186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Inside Ad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27400" y="253836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Salu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14320" y="3576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73320" y="5181480"/>
            <a:ext cx="26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Complimentary Clo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8080" y="5410080"/>
            <a:ext cx="95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John Smi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5562720"/>
            <a:ext cx="22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Writer’s Sign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5867280"/>
            <a:ext cx="25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Writer’s Keyed 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581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Letter Part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28600" y="380880"/>
            <a:ext cx="594360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04920" y="685800"/>
          <a:ext cx="5487840" cy="560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548784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1705680" y="1295280"/>
            <a:ext cx="5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Q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93080" y="228600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93080" y="266688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50480" y="495288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72160" y="5486400"/>
            <a:ext cx="5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Q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82720" y="2362320"/>
            <a:ext cx="24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mic Sans MS"/>
              </a:rPr>
              <a:t>SS paragraph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mic Sans MS"/>
              </a:rPr>
              <a:t>in body-DS betwe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4290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Format &amp; </a:t>
            </a:r>
            <a:br>
              <a:rPr sz="3200"/>
            </a:b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Spacing</a:t>
            </a:r>
            <a:br>
              <a:rPr sz="3200"/>
            </a:b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of a Letter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1909800" y="34596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2-2 ½” Top Marg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Envelop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Parts:  mailing address, return addres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Styles:  traditional and OC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Special Notations:  mailing notations (REGISTERED, SPECIAL DELIVERY), handling notations (PERSONAL, HOLD FOR ARRIVAL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Sizes:  Small (#6 ¾) and Large (#10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BD09982_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17049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Objective</a:t>
            </a: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 3.01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Keyboar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Keyboard Lay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Arrangement of Keyboa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Touch Typing Techni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Line Spacing Re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Ergonom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48320" y="23335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5053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Parts of a </a:t>
            </a:r>
            <a:br>
              <a:rPr sz="3200"/>
            </a:b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Memo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380880"/>
            <a:ext cx="594360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80880" y="1143000"/>
          <a:ext cx="5639040" cy="444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43000"/>
                    <a:ext cx="5639040" cy="44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3027240" y="160020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Guide W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10360" y="3581280"/>
            <a:ext cx="8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8640" y="4952880"/>
            <a:ext cx="19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Reference Initia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95280" y="5334120"/>
            <a:ext cx="48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Attachment No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053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Formatting</a:t>
            </a:r>
            <a:br>
              <a:rPr sz="3200"/>
            </a:b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a Memo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380880"/>
            <a:ext cx="62485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85800" y="1143000"/>
          <a:ext cx="5638680" cy="444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143000"/>
                    <a:ext cx="5638680" cy="44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3345840" y="1171440"/>
            <a:ext cx="303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Guide Words are typed in bold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all caps, and followed by a col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29280" y="1981080"/>
            <a:ext cx="31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DS between each line of th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guide words and before the bod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49400" y="4648320"/>
            <a:ext cx="26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SS within the paragraph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of the body and DS betwe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36840" y="4829040"/>
            <a:ext cx="41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36840" y="5133960"/>
            <a:ext cx="41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73200" y="609480"/>
            <a:ext cx="196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1”-1 1/2” top marg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8160" y="2339640"/>
            <a:ext cx="39348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1” side margi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Repor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ootlight MT Light"/>
              </a:rPr>
              <a:t>Unbound Reports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:  reports that are prepared without binders or covers; margins are set at 1” for the top, bottom, and si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8320" y="17521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ootlight MT Light"/>
              </a:rPr>
              <a:t>Leftbound Reports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: multi-page reports that are bound or stapled on the left side of the pages; the left margin is set wider (usually 1 ½” to allow space for bi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HH00805_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7809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Supporting Docum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ootlight MT Light"/>
              </a:rPr>
              <a:t>Title Page: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  presented as the first page of a report and includes the title, the writer’s name, date, the course, and teacher’s n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ootlight MT Light"/>
              </a:rPr>
              <a:t>Outline: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  usually placed after the title page and before the first page of the re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ootlight MT Light"/>
              </a:rPr>
              <a:t>Bibliography: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  an alphabetical list of sources of information used in writing a re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14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19240" y="3200400"/>
            <a:ext cx="8708760" cy="360"/>
            <a:chOff x="219240" y="3200400"/>
            <a:chExt cx="8708760" cy="360"/>
          </a:xfrm>
        </p:grpSpPr>
        <p:sp>
          <p:nvSpPr>
            <p:cNvPr id="196" name=""/>
            <p:cNvSpPr/>
            <p:nvPr/>
          </p:nvSpPr>
          <p:spPr>
            <a:xfrm>
              <a:off x="219240" y="3200400"/>
              <a:ext cx="87087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9240" y="3200400"/>
              <a:ext cx="87087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Objective 3.03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-229320" y="2190600"/>
            <a:ext cx="9591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Footlight MT Light"/>
              </a:rPr>
              <a:t>Proofreading</a:t>
            </a:r>
            <a:r>
              <a:rPr b="1" lang="en-US" sz="3200" spc="-1" strike="noStrike">
                <a:solidFill>
                  <a:srgbClr val="ff9900"/>
                </a:solidFill>
                <a:latin typeface="Footlight MT Light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  The process of comparing a cop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on screen or paper to the original copy 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marking errors for cor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Footlight MT Light"/>
              </a:rPr>
              <a:t>Proofreader Marks</a:t>
            </a:r>
            <a:r>
              <a:rPr b="1" lang="en-US" sz="3200" spc="-1" strike="noStrike">
                <a:solidFill>
                  <a:srgbClr val="ff9900"/>
                </a:solidFill>
                <a:latin typeface="Footlight MT Light"/>
              </a:rPr>
              <a:t>:</a:t>
            </a:r>
            <a:r>
              <a:rPr b="1" lang="en-US" sz="3200" spc="-1" strike="noStrike">
                <a:solidFill>
                  <a:srgbClr val="ffffff"/>
                </a:solidFill>
                <a:latin typeface="Footlight MT Ligh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 Marks that are used 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correct a co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j0079052" descr=""/>
          <p:cNvPicPr/>
          <p:nvPr/>
        </p:nvPicPr>
        <p:blipFill>
          <a:blip r:embed="rId1"/>
          <a:stretch/>
        </p:blipFill>
        <p:spPr>
          <a:xfrm>
            <a:off x="6477120" y="4724280"/>
            <a:ext cx="198108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Ways to Proofrea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Use the software’s spell check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Read on scre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Read from a hard cop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Switch with a partn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BD04915_" descr=""/>
          <p:cNvPicPr/>
          <p:nvPr/>
        </p:nvPicPr>
        <p:blipFill>
          <a:blip r:embed="rId1"/>
          <a:stretch/>
        </p:blipFill>
        <p:spPr>
          <a:xfrm>
            <a:off x="5086440" y="1600200"/>
            <a:ext cx="3160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Proofreading Proced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-754200" y="2133720"/>
            <a:ext cx="10484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Footlight MT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Use the spell check and grammar feature on your softwa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Footlight MT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Proofread the document on scre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Footlight MT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Preview the document using print preview.  Check the vertic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and horizontal placement as well as the overall appearanc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your docu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Footlight MT Light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Save the changes to the document and print a hard cop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Footlight MT Light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Compare the hard copy to the source copy if possible and/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have someone else proofread the docu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6.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Revise and correct errors if need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7. 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Save the changes and print the final copy of the docu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Objective 3.04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14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19240" y="3200400"/>
            <a:ext cx="8708760" cy="360"/>
            <a:chOff x="219240" y="3200400"/>
            <a:chExt cx="8708760" cy="360"/>
          </a:xfrm>
        </p:grpSpPr>
        <p:sp>
          <p:nvSpPr>
            <p:cNvPr id="209" name=""/>
            <p:cNvSpPr/>
            <p:nvPr/>
          </p:nvSpPr>
          <p:spPr>
            <a:xfrm>
              <a:off x="219240" y="3200400"/>
              <a:ext cx="87087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9240" y="3200400"/>
              <a:ext cx="87087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14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19240" y="3200400"/>
            <a:ext cx="8708760" cy="360"/>
            <a:chOff x="219240" y="3200400"/>
            <a:chExt cx="8708760" cy="360"/>
          </a:xfrm>
        </p:grpSpPr>
        <p:sp>
          <p:nvSpPr>
            <p:cNvPr id="213" name=""/>
            <p:cNvSpPr/>
            <p:nvPr/>
          </p:nvSpPr>
          <p:spPr>
            <a:xfrm>
              <a:off x="219240" y="3200400"/>
              <a:ext cx="87087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19240" y="3200400"/>
              <a:ext cx="87087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15" name="waiting" descr=""/>
          <p:cNvPicPr/>
          <p:nvPr/>
        </p:nvPicPr>
        <p:blipFill>
          <a:blip r:embed="rId1"/>
          <a:stretch/>
        </p:blipFill>
        <p:spPr>
          <a:xfrm>
            <a:off x="380880" y="54100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-212040" y="2362320"/>
            <a:ext cx="9646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GWAM:  (Gross Words A Minute) the number of keystrokes a typist can make i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a timed peri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Five characters (letters, numbers, punctuation, spaces, etc.) equal one 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word in keyboardi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To calculate GWAM divide the total number of words keyed by the number o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minutes that the typist was tim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94280" y="5638680"/>
            <a:ext cx="792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Footlight MT Light"/>
              </a:rPr>
              <a:t>Your goal now is to continue practicing good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Footlight MT Light"/>
              </a:rPr>
              <a:t>and to improve your speed and accuracy throughout this cour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93040" y="2057400"/>
            <a:ext cx="8373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 am trying to get the hang of this new fangled writ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chine, but I am not making a shining success of it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ever, this is the first attempt I ever have mad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yet I perceive that I shall soon &amp; easily acquire a fin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acility in its use…One chiefly needs swiftness in bang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keys…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Mark Twain’s first typewritten letter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mber 9, 187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BS01003_" descr=""/>
          <p:cNvPicPr/>
          <p:nvPr/>
        </p:nvPicPr>
        <p:blipFill>
          <a:blip r:embed="rId1"/>
          <a:stretch/>
        </p:blipFill>
        <p:spPr>
          <a:xfrm>
            <a:off x="6553080" y="4495680"/>
            <a:ext cx="2286000" cy="20844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A quote to leave you with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What is Keyboarding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he ability to enter text by using the corr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fingers without looking at the keys (aka-touch typing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Having adequate keyboarding skills will enable yo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o use the computer more effectively and be mo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productiv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We will continue to practice and develop your skills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as well as, improve your speed and accurac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BD06940_" descr=""/>
          <p:cNvPicPr/>
          <p:nvPr/>
        </p:nvPicPr>
        <p:blipFill>
          <a:blip r:embed="rId1"/>
          <a:stretch/>
        </p:blipFill>
        <p:spPr>
          <a:xfrm>
            <a:off x="7391520" y="990720"/>
            <a:ext cx="13762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The Keyboard Layou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The central portion that consists of the alphanumeric ke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A smaller section to the right contains the numeric keyp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A small set of function and directional keys between the letters and the numeric keyp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A row of function keys across the top used for computer comm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371600"/>
            <a:ext cx="274320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The Keyboard Arrangemen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435600" y="2286000"/>
            <a:ext cx="8079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ootlight MT Light"/>
              </a:rPr>
              <a:t>The most common arrangeme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ootlight MT Light"/>
              </a:rPr>
              <a:t>of keyboards is the QWERT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ootlight MT Light"/>
              </a:rPr>
              <a:t>keyboar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Techniqu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Maintain good post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Keep your body centered with the G/H key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Keep your wrists low but not touching the keyboard or t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Use correct fingering based on the home row keys keeping fingers curved and uprigh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Key at a steady p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Keep your copy at your si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Keep your eyes on your cop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Stay on task and have a positive attitude toward improving your techni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8320" y="2224080"/>
            <a:ext cx="403848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Line Spacing Revie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225720" y="1752480"/>
            <a:ext cx="457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Standard Paper Size:  8 ½ x 11 inch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5640" y="2438280"/>
            <a:ext cx="407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There are 66 lines per pag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Six lines equals one vertical inc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1840" y="3124080"/>
            <a:ext cx="33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Line Spacing:  the spaci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between lines of 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7360" y="4191120"/>
            <a:ext cx="504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Single Spacing (SS)-Enter one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Double Spacing (DS)-Enter two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Triple Spacing (TS)-Enter three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Quadruple Spacing (QS)-Enter four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BS01636_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228600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Ergonomic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213372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The science of designing equipment and workspace for a comfortable and safe working environmen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BD05559_" descr=""/>
          <p:cNvPicPr/>
          <p:nvPr/>
        </p:nvPicPr>
        <p:blipFill>
          <a:blip r:embed="rId1"/>
          <a:stretch/>
        </p:blipFill>
        <p:spPr>
          <a:xfrm>
            <a:off x="5410080" y="3429000"/>
            <a:ext cx="2828880" cy="2635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876200" y="6216480"/>
            <a:ext cx="37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Well, maybe not quite this comf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0" y="2849400"/>
            <a:ext cx="9144000" cy="1158840"/>
            <a:chOff x="0" y="2849400"/>
            <a:chExt cx="9144000" cy="1158840"/>
          </a:xfrm>
        </p:grpSpPr>
        <p:sp>
          <p:nvSpPr>
            <p:cNvPr id="117" name=""/>
            <p:cNvSpPr/>
            <p:nvPr/>
          </p:nvSpPr>
          <p:spPr>
            <a:xfrm>
              <a:off x="0" y="284940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849400"/>
              <a:ext cx="9144000" cy="1158840"/>
              <a:chOff x="0" y="2849400"/>
              <a:chExt cx="9144000" cy="115884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84940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849400"/>
                <a:ext cx="9144000" cy="11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ffcc66"/>
                    </a:solidFill>
                    <a:uFillTx/>
                    <a:latin typeface="Arial"/>
                    <a:ea typeface="Arial"/>
                    <a:hlinkClick r:id="rId2"/>
                  </a:rPr>
                  <a:t>  </a:t>
                </a:r>
                <a:r>
                  <a:rPr b="0" lang="en-US" sz="6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Ergonomic Tip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23920" y="205740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Top 1/3 of monitor should be at ey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Elbows &amp; knees should be positioned at 90-110 degre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Sit up straight, but relax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Feet should be suppor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Sit at least 24 inches away from the moni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Wrists should be in a neutral position while typing or using the mouse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Take frequent break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Avoid glare on the computer scre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4038840" cy="42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6T23:03:52Z</dcterms:created>
  <dc:creator>Robert Latham</dc:creator>
  <dc:description/>
  <dc:language>en-US</dc:language>
  <cp:lastModifiedBy>WCPSS</cp:lastModifiedBy>
  <dcterms:modified xsi:type="dcterms:W3CDTF">2003-03-26T18:46:12Z</dcterms:modified>
  <cp:revision>31</cp:revision>
  <dc:subject/>
  <dc:title>BCT</dc:title>
</cp:coreProperties>
</file>