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.gif" ContentType="image/gif"/>
  <Override PartName="/ppt/media/image8.png" ContentType="image/png"/>
  <Override PartName="/ppt/media/image16.wmf" ContentType="image/x-wmf"/>
  <Override PartName="/ppt/media/image20.png" ContentType="image/png"/>
  <Override PartName="/ppt/media/image2.jpeg" ContentType="image/jpeg"/>
  <Override PartName="/ppt/media/image21.wmf" ContentType="image/x-wmf"/>
  <Override PartName="/ppt/media/image19.wmf" ContentType="image/x-wmf"/>
  <Override PartName="/ppt/media/image18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01A4-7FF8-4C7F-8976-0BA8147D2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0F7F-3E7D-49B0-AB8B-9BAE879E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7A7F-7F19-4073-A8D3-612072F9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4E2B-2BA6-4D59-AFCA-5DA949224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E04EB-48C8-4F5A-96EC-A1676B0F5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D4876-58A0-4DB0-BD16-55E0233E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5BC0A-8147-4B60-818C-02828E805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AD07-EFAA-435C-BE5C-713A854E3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8734-042D-46B1-B1E8-F83C06CD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81D46-260D-4DD9-A5B9-0946B5BD9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5CBDC-F895-413D-ADF4-F124878B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AF92-E977-4029-B473-3F969F6E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2C10C-A9E2-4B77-B496-C0F8BD7E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5AAF6-5428-4289-955C-9551D092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3E41F-B306-43A4-9AD6-844303CB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F5ABC-1F3E-4FBC-B3A6-7277B20AB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2F72-4C75-4605-A7DE-D9E154540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1C99C-0DD0-4B94-BB12-35DA3EF5A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F41F-EBBE-4A4B-889E-CFD6EFA55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4FDF-915D-4CD4-A7A5-A0674A2B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648-A5CE-4582-AAEB-66DDFE4C9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1983-A212-4AE4-8F4F-10790F42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A53-CBA6-4653-8632-428090A9E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81C-0FA9-4B48-8CEC-0B2F9EE9A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E5A7C-E7FB-4381-8C99-75486AC2550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697F0-6581-4005-8F90-8DC5916C143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lipart-graphics.net/cgi-bin/imageFoliopro.cgi?action=view&amp;link=3D_Animations/computers&amp;image=3.gif&amp;img=&amp;tt=" TargetMode="External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get-free-clipart.com/gallery/album14/tastatur1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http://www.animationfactory.com/free/business/miscellaneous_variant_page_workstation_office_chair_spinning.html" TargetMode="External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9900"/>
                </a:solidFill>
                <a:latin typeface="Comic Sans MS"/>
              </a:rPr>
              <a:t>Business Computer Technology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Competency 3.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Reinforcing Keyboarding Techniqu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Footlight MT Light"/>
              </a:rPr>
              <a:t>And Document Process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Download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81360" y="2743200"/>
            <a:ext cx="3581280" cy="198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Repetitive Stress Injuri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18080" y="2209680"/>
            <a:ext cx="87379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Repetitive Stress Injuries can occur when someon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forms a task repeatedly causing the build up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of irritating waste products in the musc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Examples of these injuries are Carpal Tunnel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yndrome and DeQuervain’s Diseas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Carpal Tunnel Syndrom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-311760" y="2209680"/>
            <a:ext cx="959004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i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is the entrapment of the median nerve in the carpal tunnel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CTS occurs due to the swelling of the median nerve or the tendons of the wris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causes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It occurs from using the computer for hours without prop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ody posture and improper techniqu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Comic Sans MS"/>
              </a:rPr>
              <a:t>What are the symptoms of CT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Pain- tingling – numbness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 thumb, index, and midd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ngers – weakness and swell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of the wrist and hand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553080" y="4114800"/>
            <a:ext cx="21448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DeQuervain’s Disea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-47160" y="2238480"/>
            <a:ext cx="9364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DeQuervain’s Disease is an overuse injury of t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humb extensor tendons.  It often occurs from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etitive tapping of the space b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BS01183_" descr=""/>
          <p:cNvPicPr/>
          <p:nvPr/>
        </p:nvPicPr>
        <p:blipFill>
          <a:blip r:embed="rId1"/>
          <a:stretch/>
        </p:blipFill>
        <p:spPr>
          <a:xfrm>
            <a:off x="5791320" y="4038480"/>
            <a:ext cx="2732040" cy="26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 3.0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Fundamental Document Process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Personal-Business Let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nvelop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emorandu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ports &amp; Supporting Docu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BD04902_" descr=""/>
          <p:cNvPicPr/>
          <p:nvPr/>
        </p:nvPicPr>
        <p:blipFill>
          <a:blip r:embed="rId1"/>
          <a:stretch/>
        </p:blipFill>
        <p:spPr>
          <a:xfrm>
            <a:off x="6095880" y="3581280"/>
            <a:ext cx="2514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e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Business Letter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is a letter that is sent from one business or organization to another.  Business letters are usually keyed on a </a:t>
            </a:r>
            <a:r>
              <a:rPr b="1" lang="en-US" sz="2400" spc="-1" strike="noStrike" u="sng">
                <a:solidFill>
                  <a:srgbClr val="ff9900"/>
                </a:solidFill>
                <a:uFillTx/>
                <a:latin typeface="Footlight MT Light"/>
              </a:rPr>
              <a:t>letterhead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which is located across the top of the page.  The letterhead can consist of the business’ name, address, phone/fax/email, and log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</a:t>
            </a:r>
            <a:r>
              <a:rPr b="1" lang="en-US" sz="2800" spc="-1" strike="noStrike" u="sng">
                <a:solidFill>
                  <a:srgbClr val="ff9900"/>
                </a:solidFill>
                <a:uFillTx/>
                <a:latin typeface="Footlight MT Light"/>
              </a:rPr>
              <a:t>Personal-Business Letter</a:t>
            </a: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 is a letter that is sent from an individual to a person, business, or organizati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Reasons for Send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Request Informatio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ank you Lett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Apply for a job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mplain about a product or servic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Cover letter for a resum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Follow up to a job interview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Tips for Writing </a:t>
            </a:r>
            <a:br>
              <a:rPr sz="3600"/>
            </a:b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a Personal-Business Letter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Keep the message short and to the point but don’t be ru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First paragraph should explain why you are writing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Second paragraph should give the information and details to explain the situ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ird paragraph should be the closing and should state the action that you wish to result from the let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384120" y="685800"/>
          <a:ext cx="5381640" cy="5497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685800"/>
                    <a:ext cx="5381640" cy="549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1886760" y="685800"/>
            <a:ext cx="194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Return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873080" y="99072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Datel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63040" y="1852560"/>
            <a:ext cx="186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Inside Addr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327400" y="253836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Salu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14320" y="3576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73320" y="518148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Complimentary Clo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78080" y="541008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Handwriting"/>
              </a:rPr>
              <a:t>John Smi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371600" y="5562720"/>
            <a:ext cx="225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Signatu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71600" y="586728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Writer’s Keyed Na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5812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00"/>
                </a:solidFill>
                <a:latin typeface="Comic Sans MS"/>
              </a:rPr>
              <a:t>Letter Parts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685800"/>
          <a:ext cx="5487840" cy="5608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48784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1705680" y="129528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93080" y="228600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693080" y="2666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50480" y="4952880"/>
            <a:ext cx="5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172160" y="5486400"/>
            <a:ext cx="52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Comic Sans MS"/>
              </a:rPr>
              <a:t>Q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2720" y="2362320"/>
            <a:ext cx="244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SS paragraph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mic Sans MS"/>
              </a:rPr>
              <a:t>in body-DS betwe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4290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 &amp;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Spac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of a Letter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909800" y="345960"/>
            <a:ext cx="22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mic Sans MS"/>
              </a:rPr>
              <a:t>2-2 ½” Top Margi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Envelop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Parts:  mailing address, return addres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tyles:  traditional and OC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pecial Notations:  mailing notations (REGISTERED, SPECIAL DELIVERY), handling notations (PERSONAL, HOLD FOR ARRIVAL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Sizes:  Small (#6 ¾) and Large (#10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8" name="BD09982_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7049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Objective</a:t>
            </a: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 3.0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Keyboard Lay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Arrangement of Keyboar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Touch Typing Techniqu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Line Spacing Revie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Ergonomi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48320" y="233352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50532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Parts of a 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80880"/>
            <a:ext cx="59436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80880" y="1143000"/>
          <a:ext cx="563904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143000"/>
                    <a:ext cx="563904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3027240" y="1600200"/>
            <a:ext cx="179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Guide Wor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310360" y="3581280"/>
            <a:ext cx="8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mic Sans MS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8640" y="4952880"/>
            <a:ext cx="196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Reference Initial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5334120"/>
            <a:ext cx="48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mic Sans MS"/>
              </a:rPr>
              <a:t>Attachment Notat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5053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Formatting</a:t>
            </a:r>
            <a:br>
              <a:rPr sz="3200"/>
            </a:br>
            <a:r>
              <a:rPr b="0" lang="en-US" sz="3200" spc="-1" strike="noStrike">
                <a:solidFill>
                  <a:srgbClr val="ff9900"/>
                </a:solidFill>
                <a:latin typeface="Comic Sans MS"/>
              </a:rPr>
              <a:t>a Memo</a:t>
            </a:r>
            <a:endParaRPr b="0" lang="en-US" sz="3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80880"/>
            <a:ext cx="624852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685800" y="1143000"/>
          <a:ext cx="5638680" cy="4443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143000"/>
                    <a:ext cx="5638680" cy="444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3345840" y="1171440"/>
            <a:ext cx="303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re typed in bold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all caps, and followed by a colo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29280" y="1981080"/>
            <a:ext cx="31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 between each line of th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guide words and before the body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49400" y="4648320"/>
            <a:ext cx="2669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SS within the paragraphs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of the body and DS betwe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536840" y="482904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36840" y="5133960"/>
            <a:ext cx="41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D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73200" y="609480"/>
            <a:ext cx="196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-1 1/2” top margi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8160" y="2339640"/>
            <a:ext cx="39348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Comic Sans MS"/>
              </a:rPr>
              <a:t>1” side margin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Repor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Un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 reports that are prepared without binders or covers; margins are set at 1” for the top, bottom, and si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48320" y="175212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Leftbound Reports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: multi-page reports that are bound or stapled on the left side of the pages; the left margin is set wider (usually 1 ½” to allow space for bi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1" name="HH00805_" descr=""/>
          <p:cNvPicPr/>
          <p:nvPr/>
        </p:nvPicPr>
        <p:blipFill>
          <a:blip r:embed="rId1"/>
          <a:stretch/>
        </p:blipFill>
        <p:spPr>
          <a:xfrm>
            <a:off x="7162920" y="228600"/>
            <a:ext cx="17809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Supporting Doc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520" y="2362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Title Pag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presented as the first page of a report and includes the title, the writer’s name, date, the course, and teacher’s na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Outline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usually placed after the title page and before the first page of the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Bibliography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an alphabetical list of sources of information used in writing a re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196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3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-229320" y="2190600"/>
            <a:ext cx="95914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ing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 The process of comparing a copy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n screen or paper to the original copy and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marking errors for corre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9900"/>
                </a:solidFill>
                <a:uFillTx/>
                <a:latin typeface="Footlight MT Light"/>
              </a:rPr>
              <a:t>Proofreader Marks</a:t>
            </a:r>
            <a:r>
              <a:rPr b="1" lang="en-US" sz="3200" spc="-1" strike="noStrike">
                <a:solidFill>
                  <a:srgbClr val="ff9900"/>
                </a:solidFill>
                <a:latin typeface="Footlight MT Light"/>
              </a:rPr>
              <a:t>:</a:t>
            </a:r>
            <a:r>
              <a:rPr b="1" lang="en-US" sz="3200" spc="-1" strike="noStrike">
                <a:solidFill>
                  <a:srgbClr val="ffffff"/>
                </a:solidFill>
                <a:latin typeface="Footlight MT Light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 Marks that are used t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correct a cop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j0079052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1981080" cy="18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Ways to Proof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Use the software’s spell check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on scre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Read from a hard cop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Switch with a partn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3" name="BD04915_" descr=""/>
          <p:cNvPicPr/>
          <p:nvPr/>
        </p:nvPicPr>
        <p:blipFill>
          <a:blip r:embed="rId1"/>
          <a:stretch/>
        </p:blipFill>
        <p:spPr>
          <a:xfrm>
            <a:off x="5086440" y="1600200"/>
            <a:ext cx="31608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Proofreading Procedu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-754200" y="2133720"/>
            <a:ext cx="10484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Use the spell check and grammar feature on your softwa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ofread the document on scre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eview the document using print preview.  Check the vertica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horizontal placement as well as the overall appearance of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your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to the document and print a hard cop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Footlight MT Light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ompare the hard copy to the source copy if possible and/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e someone else proofread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6.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vise and correct errors if need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7.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ave the changes and print the final copy of the docu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Objective 3.04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09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1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219240" y="3200400"/>
            <a:ext cx="8708760" cy="360"/>
            <a:chOff x="219240" y="3200400"/>
            <a:chExt cx="8708760" cy="360"/>
          </a:xfrm>
        </p:grpSpPr>
        <p:sp>
          <p:nvSpPr>
            <p:cNvPr id="213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19240" y="3200400"/>
              <a:ext cx="87087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5" name="waiting" descr=""/>
          <p:cNvPicPr/>
          <p:nvPr/>
        </p:nvPicPr>
        <p:blipFill>
          <a:blip r:embed="rId1"/>
          <a:stretch/>
        </p:blipFill>
        <p:spPr>
          <a:xfrm>
            <a:off x="380880" y="541008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-212040" y="2362320"/>
            <a:ext cx="9646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GWAM:  (Gross Words A Minute) the number of keystrokes a typist can make i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 timed perio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ive characters (letters, numbers, punctuation, spaces, etc.) equal one standar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ord in keyboard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 calculate GWAM divide the total number of words keyed by the number o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inutes that the typist was tim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394280" y="5638680"/>
            <a:ext cx="7922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Your goal now is to continue practicing good techniq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Footlight MT Light"/>
              </a:rPr>
              <a:t>and to improve your speed and accuracy throughout this cours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93040" y="2057400"/>
            <a:ext cx="8373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I am trying to get the hang of this new fangled writ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chine, but I am not making a shining success of it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wever, this is the first attempt I ever have mad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nd yet I perceive that I shall soon &amp; easily acquire a fin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facility in its use…One chiefly needs swiftness in banging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the keys…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Mark Twain’s first typewritten letter.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mber 9, 187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9" name="BS01003_" descr=""/>
          <p:cNvPicPr/>
          <p:nvPr/>
        </p:nvPicPr>
        <p:blipFill>
          <a:blip r:embed="rId1"/>
          <a:stretch/>
        </p:blipFill>
        <p:spPr>
          <a:xfrm>
            <a:off x="6553080" y="4495680"/>
            <a:ext cx="2286000" cy="208440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A quote to leave you with…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What is Keyboarding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ability to enter text by using the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gers without looking at the keys (aka-touch typing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ving adequate keyboarding skills will enable y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use the computer more effectively and be mor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ductiv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e will continue to practice and develop your skills;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well as, improve your speed and accuracy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BD06940_" descr=""/>
          <p:cNvPicPr/>
          <p:nvPr/>
        </p:nvPicPr>
        <p:blipFill>
          <a:blip r:embed="rId1"/>
          <a:stretch/>
        </p:blipFill>
        <p:spPr>
          <a:xfrm>
            <a:off x="7391520" y="990720"/>
            <a:ext cx="1376280" cy="144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Layou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666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The central portion that consists of the alphanumeric ke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er section to the right contains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small set of function and directional keys between the letters and the numeric keyp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 row of function keys across the top used for computer comman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1371600"/>
            <a:ext cx="2743200" cy="11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The Keyboard Arrangement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" y="2286000"/>
            <a:ext cx="8079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The most common arrange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of keyboards is the QWERTY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ootlight MT Light"/>
              </a:rPr>
              <a:t>keyboard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Techniqu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Maintain good postu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body centered with the G/H ke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wrists low but not touching the keyboard or tab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Use correct fingering based on the home row keys keeping fingers curved and uprigh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y at a steady pa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copy at your si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Keep your eyes on your cop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y on task and have a positive attitude toward improving your techniqu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48320" y="2224080"/>
            <a:ext cx="4038480" cy="32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00"/>
                </a:solidFill>
                <a:latin typeface="Comic Sans MS"/>
              </a:rPr>
              <a:t>Line Spacing Review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25720" y="1752480"/>
            <a:ext cx="457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tandard Paper Size:  8 ½ x 11 inch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5640" y="2438280"/>
            <a:ext cx="4079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here are 66 lines per pag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x lines equals one vertical inch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11840" y="3124080"/>
            <a:ext cx="333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Line Spacing:  the spacing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between lines of tex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7360" y="4191120"/>
            <a:ext cx="50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ngle Spacing (SS)-Enter one ti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Double Spacing (DS)-Enter two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riple Spacing (TS)-Enter three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Quadruple Spacing (QS)-Enter four ti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BS01636_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228600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" y="213372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ootlight MT Light"/>
              </a:rPr>
              <a:t>The science of designing equipment and workspace for a comfortable and safe working environm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BD05559_" descr=""/>
          <p:cNvPicPr/>
          <p:nvPr/>
        </p:nvPicPr>
        <p:blipFill>
          <a:blip r:embed="rId1"/>
          <a:stretch/>
        </p:blipFill>
        <p:spPr>
          <a:xfrm>
            <a:off x="5410080" y="3429000"/>
            <a:ext cx="2828880" cy="26352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876200" y="6216480"/>
            <a:ext cx="37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Well, maybe not quite this comfy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84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0" y="2849400"/>
            <a:ext cx="9144000" cy="1158840"/>
            <a:chOff x="0" y="2849400"/>
            <a:chExt cx="9144000" cy="1158840"/>
          </a:xfrm>
        </p:grpSpPr>
        <p:sp>
          <p:nvSpPr>
            <p:cNvPr id="117" name=""/>
            <p:cNvSpPr/>
            <p:nvPr/>
          </p:nvSpPr>
          <p:spPr>
            <a:xfrm>
              <a:off x="0" y="2849400"/>
              <a:ext cx="72928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849400"/>
              <a:ext cx="9144000" cy="1158840"/>
              <a:chOff x="0" y="2849400"/>
              <a:chExt cx="9144000" cy="115884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849400"/>
                <a:ext cx="57722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849400"/>
                <a:ext cx="9144000" cy="11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600" spc="-1" strike="noStrike" u="sng">
                    <a:solidFill>
                      <a:srgbClr val="ffcc66"/>
                    </a:solidFill>
                    <a:uFillTx/>
                    <a:latin typeface="Arial"/>
                    <a:ea typeface="Arial"/>
                    <a:hlinkClick r:id="rId2"/>
                  </a:rPr>
                  <a:t>  </a:t>
                </a:r>
                <a:r>
                  <a:rPr b="0" lang="en-US" sz="6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</a:t>
                </a:r>
                <a:r>
                  <a:rPr b="0" lang="en-US" sz="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                                                                 </a:t>
                </a: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Comic Sans MS"/>
              </a:rPr>
              <a:t>Ergonomic Tip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23920" y="2057400"/>
            <a:ext cx="4038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op 1/3 of monitor should be at ey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Elbows &amp; knees should be positioned at 90-110 degre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up straight, but relax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Feet should be support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Sit at least 24 inches away from the monit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Wrists should be in a neutral position while typing or using the mouse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Take frequent brea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ootlight MT Light"/>
              </a:rPr>
              <a:t>Avoid glare on the computer scre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4038840" cy="42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6T23:03:52Z</dcterms:created>
  <dc:creator>Robert Latham</dc:creator>
  <dc:description/>
  <dc:language>en-US</dc:language>
  <cp:lastModifiedBy>WCPSS</cp:lastModifiedBy>
  <dcterms:modified xsi:type="dcterms:W3CDTF">2003-03-26T18:46:12Z</dcterms:modified>
  <cp:revision>31</cp:revision>
  <dc:subject/>
  <dc:title>BCT</dc:title>
</cp:coreProperties>
</file>